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FEE2-0901-4134-9432-B3026BA3C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643F-3488-40A9-A3D5-3B24BF916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3FBE-6949-48E9-8A50-A6DE81FA9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C9C8-6A85-4937-A33F-D0CFA9EA4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1134-A2CF-41F2-9CF0-4D8FFBEC2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6407-030E-417A-9CB7-D2C23A0BE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E8E9-54CC-4B56-9659-F199D1232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CECD-65EC-4BF5-A71A-DE3480C65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DD21-4339-4A49-9599-7C4B6458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E36A-3725-439D-8DCF-9C05A48C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4993-25C6-477B-8F81-CB07085D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4CAD-5DE7-4344-8CAC-69334151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4D9AD-1813-4368-B8F2-3F3551AD72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9040" y="230040"/>
            <a:ext cx="8326440" cy="1386000"/>
          </a:xfrm>
          <a:prstGeom prst="rect">
            <a:avLst/>
          </a:prstGeom>
          <a:solidFill>
            <a:srgbClr val="ffff99"/>
          </a:solidFill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flipV="1" rot="10800000">
            <a:off x="905040" y="3975480"/>
            <a:ext cx="7581600" cy="2489400"/>
          </a:xfrm>
          <a:prstGeom prst="cube">
            <a:avLst>
              <a:gd name="adj" fmla="val 78634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V="1" rot="10800000">
            <a:off x="905040" y="3443400"/>
            <a:ext cx="7581600" cy="2489040"/>
          </a:xfrm>
          <a:prstGeom prst="cube">
            <a:avLst>
              <a:gd name="adj" fmla="val 78634"/>
            </a:avLst>
          </a:prstGeom>
          <a:solidFill>
            <a:srgbClr val="cc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487840" y="4500000"/>
            <a:ext cx="339480" cy="346320"/>
            <a:chOff x="5487840" y="4500000"/>
            <a:chExt cx="339480" cy="346320"/>
          </a:xfrm>
        </p:grpSpPr>
        <p:sp>
          <p:nvSpPr>
            <p:cNvPr id="45" name=""/>
            <p:cNvSpPr/>
            <p:nvPr/>
          </p:nvSpPr>
          <p:spPr>
            <a:xfrm>
              <a:off x="5529240" y="4541760"/>
              <a:ext cx="298080" cy="3045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rot="2700000">
              <a:off x="5547240" y="4536360"/>
              <a:ext cx="208080" cy="253800"/>
            </a:xfrm>
            <a:prstGeom prst="ellips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5489640" y="4187160"/>
            <a:ext cx="339840" cy="346680"/>
            <a:chOff x="5489640" y="4187160"/>
            <a:chExt cx="339840" cy="346680"/>
          </a:xfrm>
        </p:grpSpPr>
        <p:sp>
          <p:nvSpPr>
            <p:cNvPr id="48" name=""/>
            <p:cNvSpPr/>
            <p:nvPr/>
          </p:nvSpPr>
          <p:spPr>
            <a:xfrm>
              <a:off x="5531040" y="4229280"/>
              <a:ext cx="298440" cy="3045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rot="2700000">
              <a:off x="5548680" y="422316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6948360" y="4925520"/>
            <a:ext cx="339480" cy="346320"/>
            <a:chOff x="6948360" y="4925520"/>
            <a:chExt cx="339480" cy="346320"/>
          </a:xfrm>
        </p:grpSpPr>
        <p:sp>
          <p:nvSpPr>
            <p:cNvPr id="51" name=""/>
            <p:cNvSpPr/>
            <p:nvPr/>
          </p:nvSpPr>
          <p:spPr>
            <a:xfrm>
              <a:off x="6989760" y="4967280"/>
              <a:ext cx="298080" cy="3045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2700000">
              <a:off x="7007760" y="4961880"/>
              <a:ext cx="208080" cy="253800"/>
            </a:xfrm>
            <a:prstGeom prst="ellips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6940440" y="4615920"/>
            <a:ext cx="339480" cy="346320"/>
            <a:chOff x="6940440" y="4615920"/>
            <a:chExt cx="339480" cy="346320"/>
          </a:xfrm>
        </p:grpSpPr>
        <p:sp>
          <p:nvSpPr>
            <p:cNvPr id="54" name=""/>
            <p:cNvSpPr/>
            <p:nvPr/>
          </p:nvSpPr>
          <p:spPr>
            <a:xfrm>
              <a:off x="6981840" y="4657680"/>
              <a:ext cx="298080" cy="3045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2700000">
              <a:off x="6999840" y="4652280"/>
              <a:ext cx="208080" cy="253800"/>
            </a:xfrm>
            <a:prstGeom prst="ellips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6946920" y="4301280"/>
            <a:ext cx="338040" cy="348120"/>
            <a:chOff x="6946920" y="4301280"/>
            <a:chExt cx="338040" cy="348120"/>
          </a:xfrm>
        </p:grpSpPr>
        <p:sp>
          <p:nvSpPr>
            <p:cNvPr id="57" name=""/>
            <p:cNvSpPr/>
            <p:nvPr/>
          </p:nvSpPr>
          <p:spPr>
            <a:xfrm>
              <a:off x="6986520" y="4344840"/>
              <a:ext cx="298440" cy="304560"/>
            </a:xfrm>
            <a:prstGeom prst="ellipse">
              <a:avLst/>
            </a:prstGeom>
            <a:solidFill>
              <a:srgbClr val="00624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2700000">
              <a:off x="7005960" y="433728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00624b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2476440" y="4308120"/>
            <a:ext cx="337680" cy="347760"/>
            <a:chOff x="2476440" y="4308120"/>
            <a:chExt cx="337680" cy="347760"/>
          </a:xfrm>
        </p:grpSpPr>
        <p:sp>
          <p:nvSpPr>
            <p:cNvPr id="60" name=""/>
            <p:cNvSpPr/>
            <p:nvPr/>
          </p:nvSpPr>
          <p:spPr>
            <a:xfrm>
              <a:off x="2516040" y="4351320"/>
              <a:ext cx="298080" cy="304560"/>
            </a:xfrm>
            <a:prstGeom prst="ellipse">
              <a:avLst/>
            </a:prstGeom>
            <a:solidFill>
              <a:srgbClr val="00624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rot="2700000">
              <a:off x="2535840" y="4344480"/>
              <a:ext cx="208080" cy="253800"/>
            </a:xfrm>
            <a:prstGeom prst="ellipse">
              <a:avLst/>
            </a:prstGeom>
            <a:gradFill rotWithShape="0">
              <a:gsLst>
                <a:gs pos="0">
                  <a:srgbClr val="00624b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2781360" y="4307760"/>
            <a:ext cx="338040" cy="348120"/>
            <a:chOff x="2781360" y="4307760"/>
            <a:chExt cx="338040" cy="348120"/>
          </a:xfrm>
        </p:grpSpPr>
        <p:sp>
          <p:nvSpPr>
            <p:cNvPr id="63" name=""/>
            <p:cNvSpPr/>
            <p:nvPr/>
          </p:nvSpPr>
          <p:spPr>
            <a:xfrm>
              <a:off x="2820960" y="4351320"/>
              <a:ext cx="298440" cy="304560"/>
            </a:xfrm>
            <a:prstGeom prst="ellipse">
              <a:avLst/>
            </a:prstGeom>
            <a:solidFill>
              <a:srgbClr val="00624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rot="2700000">
              <a:off x="2840400" y="434376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00624b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3822840" y="4784040"/>
            <a:ext cx="338040" cy="348120"/>
            <a:chOff x="3822840" y="4784040"/>
            <a:chExt cx="338040" cy="348120"/>
          </a:xfrm>
        </p:grpSpPr>
        <p:sp>
          <p:nvSpPr>
            <p:cNvPr id="66" name=""/>
            <p:cNvSpPr/>
            <p:nvPr/>
          </p:nvSpPr>
          <p:spPr>
            <a:xfrm>
              <a:off x="3862440" y="4827600"/>
              <a:ext cx="298440" cy="304560"/>
            </a:xfrm>
            <a:prstGeom prst="ellipse">
              <a:avLst/>
            </a:prstGeom>
            <a:solidFill>
              <a:srgbClr val="00624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rot="2700000">
              <a:off x="3881880" y="482004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00624b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3824280" y="4101480"/>
            <a:ext cx="338040" cy="348120"/>
            <a:chOff x="3824280" y="4101480"/>
            <a:chExt cx="338040" cy="348120"/>
          </a:xfrm>
        </p:grpSpPr>
        <p:sp>
          <p:nvSpPr>
            <p:cNvPr id="69" name=""/>
            <p:cNvSpPr/>
            <p:nvPr/>
          </p:nvSpPr>
          <p:spPr>
            <a:xfrm>
              <a:off x="3863880" y="4145040"/>
              <a:ext cx="298440" cy="304560"/>
            </a:xfrm>
            <a:prstGeom prst="ellipse">
              <a:avLst/>
            </a:prstGeom>
            <a:solidFill>
              <a:srgbClr val="00624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2700000">
              <a:off x="3883320" y="413748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00624b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1092240" y="2694960"/>
            <a:ext cx="338040" cy="348120"/>
            <a:chOff x="1092240" y="2694960"/>
            <a:chExt cx="338040" cy="348120"/>
          </a:xfrm>
        </p:grpSpPr>
        <p:sp>
          <p:nvSpPr>
            <p:cNvPr id="72" name=""/>
            <p:cNvSpPr/>
            <p:nvPr/>
          </p:nvSpPr>
          <p:spPr>
            <a:xfrm>
              <a:off x="1131840" y="2738520"/>
              <a:ext cx="298440" cy="304560"/>
            </a:xfrm>
            <a:prstGeom prst="ellipse">
              <a:avLst/>
            </a:prstGeom>
            <a:solidFill>
              <a:srgbClr val="00624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rot="2700000">
              <a:off x="1151280" y="273096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00624b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1397160" y="2694960"/>
            <a:ext cx="338040" cy="348120"/>
            <a:chOff x="1397160" y="2694960"/>
            <a:chExt cx="338040" cy="348120"/>
          </a:xfrm>
        </p:grpSpPr>
        <p:sp>
          <p:nvSpPr>
            <p:cNvPr id="75" name=""/>
            <p:cNvSpPr/>
            <p:nvPr/>
          </p:nvSpPr>
          <p:spPr>
            <a:xfrm>
              <a:off x="1436760" y="2738520"/>
              <a:ext cx="298440" cy="304560"/>
            </a:xfrm>
            <a:prstGeom prst="ellipse">
              <a:avLst/>
            </a:prstGeom>
            <a:solidFill>
              <a:srgbClr val="00624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rot="2700000">
              <a:off x="1456200" y="273096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00624b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2482920" y="2370960"/>
            <a:ext cx="338040" cy="348120"/>
            <a:chOff x="2482920" y="2370960"/>
            <a:chExt cx="338040" cy="348120"/>
          </a:xfrm>
        </p:grpSpPr>
        <p:sp>
          <p:nvSpPr>
            <p:cNvPr id="78" name=""/>
            <p:cNvSpPr/>
            <p:nvPr/>
          </p:nvSpPr>
          <p:spPr>
            <a:xfrm>
              <a:off x="2522520" y="2414520"/>
              <a:ext cx="298440" cy="304560"/>
            </a:xfrm>
            <a:prstGeom prst="ellipse">
              <a:avLst/>
            </a:prstGeom>
            <a:solidFill>
              <a:srgbClr val="00624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2700000">
              <a:off x="2541960" y="240696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00624b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87840" y="2370960"/>
            <a:ext cx="338040" cy="348120"/>
            <a:chOff x="2787840" y="2370960"/>
            <a:chExt cx="338040" cy="348120"/>
          </a:xfrm>
        </p:grpSpPr>
        <p:sp>
          <p:nvSpPr>
            <p:cNvPr id="81" name=""/>
            <p:cNvSpPr/>
            <p:nvPr/>
          </p:nvSpPr>
          <p:spPr>
            <a:xfrm>
              <a:off x="2827440" y="2414520"/>
              <a:ext cx="298440" cy="304560"/>
            </a:xfrm>
            <a:prstGeom prst="ellipse">
              <a:avLst/>
            </a:prstGeom>
            <a:solidFill>
              <a:srgbClr val="00624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700000">
              <a:off x="2846880" y="240696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00624b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5043600" y="4025160"/>
            <a:ext cx="338040" cy="348120"/>
            <a:chOff x="5043600" y="4025160"/>
            <a:chExt cx="338040" cy="348120"/>
          </a:xfrm>
        </p:grpSpPr>
        <p:sp>
          <p:nvSpPr>
            <p:cNvPr id="84" name=""/>
            <p:cNvSpPr/>
            <p:nvPr/>
          </p:nvSpPr>
          <p:spPr>
            <a:xfrm>
              <a:off x="5083200" y="4068720"/>
              <a:ext cx="298440" cy="304560"/>
            </a:xfrm>
            <a:prstGeom prst="ellipse">
              <a:avLst/>
            </a:prstGeom>
            <a:solidFill>
              <a:srgbClr val="00624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700000">
              <a:off x="5102640" y="406116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00624b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259160" y="2772720"/>
            <a:ext cx="339480" cy="346320"/>
            <a:chOff x="4259160" y="2772720"/>
            <a:chExt cx="339480" cy="346320"/>
          </a:xfrm>
        </p:grpSpPr>
        <p:sp>
          <p:nvSpPr>
            <p:cNvPr id="87" name=""/>
            <p:cNvSpPr/>
            <p:nvPr/>
          </p:nvSpPr>
          <p:spPr>
            <a:xfrm>
              <a:off x="4300560" y="2814480"/>
              <a:ext cx="298080" cy="3045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2700000">
              <a:off x="4318560" y="2809080"/>
              <a:ext cx="208080" cy="253800"/>
            </a:xfrm>
            <a:prstGeom prst="ellips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4260600" y="2460240"/>
            <a:ext cx="339480" cy="346320"/>
            <a:chOff x="4260600" y="2460240"/>
            <a:chExt cx="339480" cy="346320"/>
          </a:xfrm>
        </p:grpSpPr>
        <p:sp>
          <p:nvSpPr>
            <p:cNvPr id="90" name=""/>
            <p:cNvSpPr/>
            <p:nvPr/>
          </p:nvSpPr>
          <p:spPr>
            <a:xfrm>
              <a:off x="4302000" y="2502000"/>
              <a:ext cx="298080" cy="3045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2700000">
              <a:off x="4320000" y="2496600"/>
              <a:ext cx="208080" cy="253800"/>
            </a:xfrm>
            <a:prstGeom prst="ellips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5526000" y="2188800"/>
            <a:ext cx="339480" cy="346320"/>
            <a:chOff x="5526000" y="2188800"/>
            <a:chExt cx="339480" cy="346320"/>
          </a:xfrm>
        </p:grpSpPr>
        <p:sp>
          <p:nvSpPr>
            <p:cNvPr id="93" name=""/>
            <p:cNvSpPr/>
            <p:nvPr/>
          </p:nvSpPr>
          <p:spPr>
            <a:xfrm>
              <a:off x="5567400" y="2230560"/>
              <a:ext cx="298080" cy="3045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2700000">
              <a:off x="5585400" y="2225160"/>
              <a:ext cx="208080" cy="253800"/>
            </a:xfrm>
            <a:prstGeom prst="ellips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5527440" y="1875960"/>
            <a:ext cx="339480" cy="346320"/>
            <a:chOff x="5527440" y="1875960"/>
            <a:chExt cx="339480" cy="346320"/>
          </a:xfrm>
        </p:grpSpPr>
        <p:sp>
          <p:nvSpPr>
            <p:cNvPr id="96" name=""/>
            <p:cNvSpPr/>
            <p:nvPr/>
          </p:nvSpPr>
          <p:spPr>
            <a:xfrm>
              <a:off x="5568840" y="1917720"/>
              <a:ext cx="298080" cy="3045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2700000">
              <a:off x="5586840" y="1912320"/>
              <a:ext cx="208080" cy="253800"/>
            </a:xfrm>
            <a:prstGeom prst="ellips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2822400" y="27637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68320" y="3024360"/>
            <a:ext cx="1054080" cy="1320480"/>
          </a:xfrm>
          <a:custGeom>
            <a:avLst/>
            <a:gdLst/>
            <a:ahLst/>
            <a:rect l="l" t="t" r="r" b="b"/>
            <a:pathLst>
              <a:path w="640" h="760">
                <a:moveTo>
                  <a:pt x="640" y="760"/>
                </a:moveTo>
                <a:lnTo>
                  <a:pt x="620" y="636"/>
                </a:lnTo>
                <a:lnTo>
                  <a:pt x="592" y="558"/>
                </a:lnTo>
                <a:lnTo>
                  <a:pt x="568" y="508"/>
                </a:lnTo>
                <a:lnTo>
                  <a:pt x="524" y="448"/>
                </a:lnTo>
                <a:lnTo>
                  <a:pt x="466" y="396"/>
                </a:lnTo>
                <a:lnTo>
                  <a:pt x="374" y="310"/>
                </a:lnTo>
                <a:lnTo>
                  <a:pt x="256" y="208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22400" y="3506760"/>
            <a:ext cx="1800" cy="812880"/>
          </a:xfrm>
          <a:custGeom>
            <a:avLst/>
            <a:gdLst/>
            <a:ahLst/>
            <a:rect l="l" t="t" r="r" b="b"/>
            <a:pathLst>
              <a:path w="1" h="512">
                <a:moveTo>
                  <a:pt x="0" y="0"/>
                </a:moveTo>
                <a:lnTo>
                  <a:pt x="0" y="51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46400" y="4592520"/>
            <a:ext cx="669960" cy="30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84640" y="4065480"/>
            <a:ext cx="879480" cy="155520"/>
          </a:xfrm>
          <a:custGeom>
            <a:avLst/>
            <a:gdLst/>
            <a:ahLst/>
            <a:rect l="l" t="t" r="r" b="b"/>
            <a:pathLst>
              <a:path w="554" h="98">
                <a:moveTo>
                  <a:pt x="0" y="98"/>
                </a:moveTo>
                <a:lnTo>
                  <a:pt x="84" y="66"/>
                </a:lnTo>
                <a:lnTo>
                  <a:pt x="180" y="34"/>
                </a:lnTo>
                <a:lnTo>
                  <a:pt x="262" y="16"/>
                </a:lnTo>
                <a:lnTo>
                  <a:pt x="322" y="8"/>
                </a:lnTo>
                <a:lnTo>
                  <a:pt x="382" y="0"/>
                </a:lnTo>
                <a:lnTo>
                  <a:pt x="444" y="6"/>
                </a:lnTo>
                <a:lnTo>
                  <a:pt x="554" y="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05440" y="4614840"/>
            <a:ext cx="663480" cy="374760"/>
          </a:xfrm>
          <a:custGeom>
            <a:avLst/>
            <a:gdLst/>
            <a:ahLst/>
            <a:rect l="l" t="t" r="r" b="b"/>
            <a:pathLst>
              <a:path w="418" h="236">
                <a:moveTo>
                  <a:pt x="418" y="236"/>
                </a:moveTo>
                <a:lnTo>
                  <a:pt x="400" y="204"/>
                </a:lnTo>
                <a:lnTo>
                  <a:pt x="368" y="168"/>
                </a:lnTo>
                <a:lnTo>
                  <a:pt x="300" y="118"/>
                </a:lnTo>
                <a:lnTo>
                  <a:pt x="240" y="80"/>
                </a:lnTo>
                <a:lnTo>
                  <a:pt x="158" y="48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91080" y="2827440"/>
            <a:ext cx="1101600" cy="1314360"/>
          </a:xfrm>
          <a:custGeom>
            <a:avLst/>
            <a:gdLst/>
            <a:ahLst/>
            <a:rect l="l" t="t" r="r" b="b"/>
            <a:pathLst>
              <a:path w="694" h="828">
                <a:moveTo>
                  <a:pt x="694" y="828"/>
                </a:moveTo>
                <a:lnTo>
                  <a:pt x="694" y="700"/>
                </a:lnTo>
                <a:lnTo>
                  <a:pt x="660" y="614"/>
                </a:lnTo>
                <a:lnTo>
                  <a:pt x="588" y="502"/>
                </a:lnTo>
                <a:lnTo>
                  <a:pt x="512" y="396"/>
                </a:lnTo>
                <a:lnTo>
                  <a:pt x="416" y="294"/>
                </a:lnTo>
                <a:lnTo>
                  <a:pt x="306" y="204"/>
                </a:lnTo>
                <a:lnTo>
                  <a:pt x="176" y="112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05640" y="2643120"/>
            <a:ext cx="0" cy="149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51440" y="4538520"/>
            <a:ext cx="1095480" cy="203400"/>
          </a:xfrm>
          <a:custGeom>
            <a:avLst/>
            <a:gdLst/>
            <a:ahLst/>
            <a:rect l="l" t="t" r="r" b="b"/>
            <a:pathLst>
              <a:path w="690" h="128">
                <a:moveTo>
                  <a:pt x="0" y="0"/>
                </a:moveTo>
                <a:lnTo>
                  <a:pt x="158" y="6"/>
                </a:lnTo>
                <a:lnTo>
                  <a:pt x="278" y="16"/>
                </a:lnTo>
                <a:lnTo>
                  <a:pt x="382" y="32"/>
                </a:lnTo>
                <a:lnTo>
                  <a:pt x="466" y="50"/>
                </a:lnTo>
                <a:lnTo>
                  <a:pt x="560" y="74"/>
                </a:lnTo>
                <a:lnTo>
                  <a:pt x="690" y="12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3868560"/>
            <a:ext cx="1076400" cy="955800"/>
          </a:xfrm>
          <a:custGeom>
            <a:avLst/>
            <a:gdLst/>
            <a:ahLst/>
            <a:rect l="l" t="t" r="r" b="b"/>
            <a:pathLst>
              <a:path w="536" h="472">
                <a:moveTo>
                  <a:pt x="0" y="472"/>
                </a:moveTo>
                <a:lnTo>
                  <a:pt x="92" y="434"/>
                </a:lnTo>
                <a:lnTo>
                  <a:pt x="170" y="336"/>
                </a:lnTo>
                <a:lnTo>
                  <a:pt x="256" y="206"/>
                </a:lnTo>
                <a:lnTo>
                  <a:pt x="326" y="116"/>
                </a:lnTo>
                <a:lnTo>
                  <a:pt x="370" y="68"/>
                </a:lnTo>
                <a:lnTo>
                  <a:pt x="446" y="16"/>
                </a:lnTo>
                <a:lnTo>
                  <a:pt x="53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8396280" y="3982320"/>
            <a:ext cx="339840" cy="346680"/>
            <a:chOff x="8396280" y="3982320"/>
            <a:chExt cx="339840" cy="346680"/>
          </a:xfrm>
        </p:grpSpPr>
        <p:sp>
          <p:nvSpPr>
            <p:cNvPr id="109" name=""/>
            <p:cNvSpPr/>
            <p:nvPr/>
          </p:nvSpPr>
          <p:spPr>
            <a:xfrm>
              <a:off x="8437680" y="4024440"/>
              <a:ext cx="298440" cy="3045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2700000">
              <a:off x="8455320" y="401832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8388360" y="3672720"/>
            <a:ext cx="339840" cy="346680"/>
            <a:chOff x="8388360" y="3672720"/>
            <a:chExt cx="339840" cy="346680"/>
          </a:xfrm>
        </p:grpSpPr>
        <p:sp>
          <p:nvSpPr>
            <p:cNvPr id="112" name=""/>
            <p:cNvSpPr/>
            <p:nvPr/>
          </p:nvSpPr>
          <p:spPr>
            <a:xfrm>
              <a:off x="8429760" y="3714840"/>
              <a:ext cx="298440" cy="3045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2700000">
              <a:off x="8447400" y="370872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8394840" y="3358440"/>
            <a:ext cx="338040" cy="348120"/>
            <a:chOff x="8394840" y="3358440"/>
            <a:chExt cx="338040" cy="348120"/>
          </a:xfrm>
        </p:grpSpPr>
        <p:sp>
          <p:nvSpPr>
            <p:cNvPr id="115" name=""/>
            <p:cNvSpPr/>
            <p:nvPr/>
          </p:nvSpPr>
          <p:spPr>
            <a:xfrm>
              <a:off x="8434440" y="3402000"/>
              <a:ext cx="298440" cy="304560"/>
            </a:xfrm>
            <a:prstGeom prst="ellipse">
              <a:avLst/>
            </a:prstGeom>
            <a:solidFill>
              <a:srgbClr val="00624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2700000">
              <a:off x="8453880" y="339444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00624b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836280" y="3063960"/>
            <a:ext cx="12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or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98280" y="2847960"/>
            <a:ext cx="12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sor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11360" y="4930920"/>
            <a:ext cx="125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t ex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95800" y="5464080"/>
            <a:ext cx="24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alyst 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95800" y="5997600"/>
            <a:ext cx="174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16800" y="5591160"/>
            <a:ext cx="125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ctron trans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27720" y="5640480"/>
            <a:ext cx="0" cy="66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443640" y="562932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77880" y="4383000"/>
            <a:ext cx="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706400" y="4498920"/>
            <a:ext cx="3240" cy="67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2406600">
            <a:off x="4527720" y="2774520"/>
            <a:ext cx="12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or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71080" y="2784600"/>
            <a:ext cx="149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adsor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716400">
            <a:off x="5880240" y="4203720"/>
            <a:ext cx="1000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rface 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51440" y="3419640"/>
            <a:ext cx="116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rface diff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70320" y="5095800"/>
            <a:ext cx="193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inter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444800">
            <a:off x="2693520" y="4784400"/>
            <a:ext cx="13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soc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19033200">
            <a:off x="7243920" y="3723480"/>
            <a:ext cx="12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or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05520" y="4338720"/>
            <a:ext cx="330120" cy="606240"/>
          </a:xfrm>
          <a:custGeom>
            <a:avLst/>
            <a:gdLst/>
            <a:ahLst/>
            <a:rect l="l" t="t" r="r" b="b"/>
            <a:pathLst>
              <a:path w="208" h="382">
                <a:moveTo>
                  <a:pt x="0" y="382"/>
                </a:moveTo>
                <a:lnTo>
                  <a:pt x="68" y="308"/>
                </a:lnTo>
                <a:lnTo>
                  <a:pt x="120" y="230"/>
                </a:lnTo>
                <a:lnTo>
                  <a:pt x="160" y="146"/>
                </a:lnTo>
                <a:lnTo>
                  <a:pt x="208" y="0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00480" y="4911840"/>
            <a:ext cx="259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adsorbate-adsorb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3920" y="217440"/>
            <a:ext cx="801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ynamic methods in Chemical kinet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7880" y="971640"/>
            <a:ext cx="548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.J. Keil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U Hamburg-Harbu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48440" y="1913040"/>
            <a:ext cx="26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rokin - June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61040" y="1935000"/>
            <a:ext cx="2651040" cy="4669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tuhh_geel" descr=""/>
          <p:cNvPicPr/>
          <p:nvPr/>
        </p:nvPicPr>
        <p:blipFill>
          <a:blip r:embed="rId1"/>
          <a:stretch/>
        </p:blipFill>
        <p:spPr>
          <a:xfrm>
            <a:off x="6510240" y="888840"/>
            <a:ext cx="190512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41200" y="515880"/>
            <a:ext cx="8737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Model equations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with some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explanation (3 pages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surface reactions model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(1 page) and several 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dynamic simulations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using sinusoidal feed (4 pages) and 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reactor set-up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(1 pag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are available in the scanned copi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see file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Keil_scans.doc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, pages 16-28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280" y="527040"/>
            <a:ext cx="8867880" cy="195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Temperature Scanning Reactor (TS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32040" y="1344600"/>
            <a:ext cx="31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2760" indent="-4827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. Kolkowski, F. Keil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076640" y="1104840"/>
            <a:ext cx="1905120" cy="6098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7040520" y="1419120"/>
            <a:ext cx="1133640" cy="8193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414440" y="1878120"/>
            <a:ext cx="551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54080" indent="-105408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co-operation with: Liebner, Wolf and Bae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92000" y="2513160"/>
            <a:ext cx="722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33440" indent="-133344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bjectiv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ation of the intrinsic kinetic parameters of a heterogeneous catalysed 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5600" y="3198960"/>
            <a:ext cx="8453160" cy="10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ecessary assump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influence of heat and mass transfer from gas bulk phase to catalyst su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temperature dependence of the catalyst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2640" y="4379760"/>
            <a:ext cx="8453520" cy="22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perimental boundary conditions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nt catalytic activity along the b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g flow in the tube re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nt initial temperature of the temperature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ways the same temperature program at the in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actor’s environment is heated-up as in (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eat transfer reactor/environment determines the heat remo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00280" y="1104840"/>
            <a:ext cx="7581600" cy="12193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97000" y="608040"/>
            <a:ext cx="8453160" cy="27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perimental procedure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just a constant mole flux of constant com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a certain temperature program between two fixed temperature 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 the temperature and the composition at the outlet of the reactor while the temperature program is ru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 end temperature of the program is reached, cool down the reactor to start temperature in 2., adjust a new mole flux but keep the composition of 1. constant and repeat 2. with the same temperature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 this procedure for at least four mole flux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0600" y="4770360"/>
            <a:ext cx="843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Reactor set-up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model equations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some typical experimental results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with some explanation (9 pages),</a:t>
            </a:r>
            <a:r>
              <a:rPr b="0" i="1" lang="en-US" sz="2400" spc="-1" strike="noStrike" u="sng">
                <a:solidFill>
                  <a:srgbClr val="cc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are available in the scanned copies, see file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Keil_scans.doc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, pages 29-3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1680" y="4781520"/>
            <a:ext cx="8524800" cy="1252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23720" y="798480"/>
            <a:ext cx="8453520" cy="21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dvantages TSR method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 investigation of a reactor over a wide temperature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derivation of the reaction rate of each 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investigation of the influence of different partial pressures of reactants on the reaction 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 computation of reaction rates and kinetic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11120" y="3300480"/>
            <a:ext cx="8453520" cy="11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isvantages TSR method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demands on experimental data accur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systematical errors caused by velocity var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assical Catalytic Kine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60360" y="1003320"/>
            <a:ext cx="87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lacebo or a REAL Thing ?   (Boudart, 198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168680" y="43956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HHW, 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60360" y="1608120"/>
            <a:ext cx="878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oudart (1980 !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S,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ructure Insensitive reac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HHW is cor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dox of Chemical kinetic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uccessful Application of an Inadequate Model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60360" y="3792600"/>
            <a:ext cx="878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perma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 kinetics: What is the point of matter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0360" y="5118120"/>
            <a:ext cx="878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ometimes the best Fit to Experimental Rate Data is given by Equations that are neither of LHHW form not of the form of a Power Rate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60360" y="1003320"/>
            <a:ext cx="878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of kinetic data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atalytic processes on surfaces from measurements in the gas ph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in general NOT possible (ill-posed problem, not uniq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7320" y="4638600"/>
            <a:ext cx="19195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5480" y="3965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41600" y="4822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44560" y="4441680"/>
            <a:ext cx="115920" cy="1144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35000" y="4441680"/>
            <a:ext cx="115920" cy="1144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28680" y="4441680"/>
            <a:ext cx="115920" cy="1144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5200" y="4695840"/>
            <a:ext cx="115560" cy="1141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25640" y="4695840"/>
            <a:ext cx="115920" cy="1141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01800" y="4108320"/>
            <a:ext cx="1778040" cy="96840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05040" y="4649760"/>
            <a:ext cx="1778040" cy="276120"/>
          </a:xfrm>
          <a:custGeom>
            <a:avLst/>
            <a:gdLst/>
            <a:ahLst/>
            <a:rect l="l" t="t" r="r" b="b"/>
            <a:pathLst>
              <a:path w="1120" h="174">
                <a:moveTo>
                  <a:pt x="0" y="173"/>
                </a:moveTo>
                <a:lnTo>
                  <a:pt x="215" y="174"/>
                </a:lnTo>
                <a:lnTo>
                  <a:pt x="305" y="0"/>
                </a:lnTo>
                <a:lnTo>
                  <a:pt x="397" y="174"/>
                </a:lnTo>
                <a:lnTo>
                  <a:pt x="559" y="174"/>
                </a:lnTo>
                <a:lnTo>
                  <a:pt x="649" y="1"/>
                </a:lnTo>
                <a:lnTo>
                  <a:pt x="740" y="172"/>
                </a:lnTo>
                <a:lnTo>
                  <a:pt x="850" y="172"/>
                </a:lnTo>
                <a:lnTo>
                  <a:pt x="941" y="0"/>
                </a:lnTo>
                <a:lnTo>
                  <a:pt x="1030" y="172"/>
                </a:lnTo>
                <a:lnTo>
                  <a:pt x="1120" y="172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983320" y="4219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48160" y="4213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043520" y="4213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870360" y="4448160"/>
            <a:ext cx="2300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918160" y="36860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ack 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83080" y="4635360"/>
            <a:ext cx="189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38840" y="4419720"/>
            <a:ext cx="1269720" cy="139680"/>
          </a:xfrm>
          <a:custGeom>
            <a:avLst/>
            <a:gdLst/>
            <a:ahLst/>
            <a:rect l="l" t="t" r="r" b="b"/>
            <a:pathLst>
              <a:path w="800" h="88">
                <a:moveTo>
                  <a:pt x="0" y="84"/>
                </a:moveTo>
                <a:lnTo>
                  <a:pt x="91" y="84"/>
                </a:lnTo>
                <a:lnTo>
                  <a:pt x="145" y="78"/>
                </a:lnTo>
                <a:lnTo>
                  <a:pt x="190" y="67"/>
                </a:lnTo>
                <a:lnTo>
                  <a:pt x="233" y="49"/>
                </a:lnTo>
                <a:lnTo>
                  <a:pt x="268" y="33"/>
                </a:lnTo>
                <a:lnTo>
                  <a:pt x="299" y="16"/>
                </a:lnTo>
                <a:lnTo>
                  <a:pt x="336" y="7"/>
                </a:lnTo>
                <a:lnTo>
                  <a:pt x="368" y="1"/>
                </a:lnTo>
                <a:lnTo>
                  <a:pt x="403" y="0"/>
                </a:lnTo>
                <a:lnTo>
                  <a:pt x="440" y="1"/>
                </a:lnTo>
                <a:lnTo>
                  <a:pt x="478" y="10"/>
                </a:lnTo>
                <a:lnTo>
                  <a:pt x="511" y="19"/>
                </a:lnTo>
                <a:lnTo>
                  <a:pt x="545" y="40"/>
                </a:lnTo>
                <a:lnTo>
                  <a:pt x="583" y="60"/>
                </a:lnTo>
                <a:lnTo>
                  <a:pt x="616" y="73"/>
                </a:lnTo>
                <a:lnTo>
                  <a:pt x="661" y="84"/>
                </a:lnTo>
                <a:lnTo>
                  <a:pt x="694" y="88"/>
                </a:lnTo>
                <a:lnTo>
                  <a:pt x="800" y="8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02200" y="4815000"/>
            <a:ext cx="2346120" cy="707760"/>
          </a:xfrm>
          <a:custGeom>
            <a:avLst/>
            <a:gdLst/>
            <a:ahLst/>
            <a:rect l="l" t="t" r="r" b="b"/>
            <a:pathLst>
              <a:path w="1478" h="446">
                <a:moveTo>
                  <a:pt x="1478" y="0"/>
                </a:moveTo>
                <a:lnTo>
                  <a:pt x="1443" y="80"/>
                </a:lnTo>
                <a:lnTo>
                  <a:pt x="1389" y="153"/>
                </a:lnTo>
                <a:lnTo>
                  <a:pt x="1309" y="227"/>
                </a:lnTo>
                <a:lnTo>
                  <a:pt x="1195" y="290"/>
                </a:lnTo>
                <a:lnTo>
                  <a:pt x="1021" y="370"/>
                </a:lnTo>
                <a:lnTo>
                  <a:pt x="864" y="412"/>
                </a:lnTo>
                <a:lnTo>
                  <a:pt x="697" y="437"/>
                </a:lnTo>
                <a:lnTo>
                  <a:pt x="526" y="446"/>
                </a:lnTo>
                <a:lnTo>
                  <a:pt x="360" y="442"/>
                </a:lnTo>
                <a:lnTo>
                  <a:pt x="279" y="430"/>
                </a:lnTo>
                <a:lnTo>
                  <a:pt x="177" y="392"/>
                </a:lnTo>
                <a:lnTo>
                  <a:pt x="96" y="353"/>
                </a:lnTo>
                <a:lnTo>
                  <a:pt x="0" y="279"/>
                </a:lnTo>
              </a:path>
            </a:pathLst>
          </a:custGeom>
          <a:noFill/>
          <a:ln w="9360">
            <a:solidFill>
              <a:srgbClr val="000099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432480" y="4010040"/>
            <a:ext cx="157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is at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197840" y="3592440"/>
            <a:ext cx="504720" cy="409680"/>
          </a:xfrm>
          <a:custGeom>
            <a:avLst/>
            <a:gdLst/>
            <a:ahLst/>
            <a:rect l="l" t="t" r="r" b="b"/>
            <a:pathLst>
              <a:path w="318" h="258">
                <a:moveTo>
                  <a:pt x="0" y="0"/>
                </a:moveTo>
                <a:lnTo>
                  <a:pt x="62" y="14"/>
                </a:lnTo>
                <a:lnTo>
                  <a:pt x="116" y="42"/>
                </a:lnTo>
                <a:lnTo>
                  <a:pt x="156" y="72"/>
                </a:lnTo>
                <a:lnTo>
                  <a:pt x="197" y="104"/>
                </a:lnTo>
                <a:lnTo>
                  <a:pt x="237" y="143"/>
                </a:lnTo>
                <a:lnTo>
                  <a:pt x="270" y="182"/>
                </a:lnTo>
                <a:lnTo>
                  <a:pt x="318" y="258"/>
                </a:lnTo>
              </a:path>
            </a:pathLst>
          </a:custGeom>
          <a:noFill/>
          <a:ln w="9360">
            <a:solidFill>
              <a:srgbClr val="000099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165720" y="326376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46840" y="552456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Inverse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528480" y="425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Key problems in the study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kinetics of catalytic re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63680" y="1047600"/>
            <a:ext cx="47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P. Stolze: Prog. Surf. Sci.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65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(2000) 6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0360" y="1496880"/>
            <a:ext cx="741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etics cannot be deduced from the net re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0360" y="2154240"/>
            <a:ext cx="741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eaction with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mple kinetic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oe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ot necessari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mple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0360" y="4057560"/>
            <a:ext cx="741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mple mechanis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y have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ery complex kine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72960" y="4454640"/>
            <a:ext cx="858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ifferent reaction 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y predict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ame overall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60360" y="4834080"/>
            <a:ext cx="829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mechanistic details cannot be deduced from an experimental determination of the form of the kinetic expr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60360" y="5411880"/>
            <a:ext cx="8783640" cy="13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dangerous to argue by analogy since the reaction mechanism may be completely different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2 HI   :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k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600" spc="-1" strike="noStrike" baseline="-4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 baseline="-4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(k/K)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HI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ut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B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HBr    proceeds via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hain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34800" y="1776240"/>
            <a:ext cx="741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in general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k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(k/K)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714680" y="1922400"/>
            <a:ext cx="241200" cy="92160"/>
          </a:xfrm>
          <a:prstGeom prst="leftRightArrow">
            <a:avLst>
              <a:gd name="adj1" fmla="val 50000"/>
              <a:gd name="adj2" fmla="val 52101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30160" y="2759040"/>
            <a:ext cx="7413840" cy="14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4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 = k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600" spc="-1" strike="noStrike" baseline="-4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600" spc="-1" strike="noStrike" baseline="-42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+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2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6640" y="2801880"/>
            <a:ext cx="2389320" cy="3193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62120" y="2901960"/>
            <a:ext cx="241200" cy="92160"/>
          </a:xfrm>
          <a:prstGeom prst="leftRightArrow">
            <a:avLst>
              <a:gd name="adj1" fmla="val 50000"/>
              <a:gd name="adj2" fmla="val 52101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62000" y="3244680"/>
            <a:ext cx="241560" cy="92160"/>
          </a:xfrm>
          <a:prstGeom prst="leftRightArrow">
            <a:avLst>
              <a:gd name="adj1" fmla="val 50000"/>
              <a:gd name="adj2" fmla="val 5217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43040" y="3589200"/>
            <a:ext cx="257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428920" y="3879720"/>
            <a:ext cx="257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81160" y="6107040"/>
            <a:ext cx="241200" cy="92160"/>
          </a:xfrm>
          <a:prstGeom prst="leftRightArrow">
            <a:avLst>
              <a:gd name="adj1" fmla="val 50000"/>
              <a:gd name="adj2" fmla="val 52101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60560" y="6440400"/>
            <a:ext cx="241560" cy="92160"/>
          </a:xfrm>
          <a:prstGeom prst="leftRightArrow">
            <a:avLst>
              <a:gd name="adj1" fmla="val 50000"/>
              <a:gd name="adj2" fmla="val 5217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GENERAL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60360" y="1204920"/>
            <a:ext cx="816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some Experiments and Chemical Knowledge a couple of “Mechanisms” (Sequences of Elementary steps) are assum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76280" y="2306520"/>
            <a:ext cx="736560" cy="246240"/>
          </a:xfrm>
          <a:prstGeom prst="rightArrow">
            <a:avLst>
              <a:gd name="adj1" fmla="val 50000"/>
              <a:gd name="adj2" fmla="val 74781"/>
            </a:avLst>
          </a:prstGeom>
          <a:solidFill>
            <a:srgbClr val="008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341360" y="2257560"/>
            <a:ext cx="70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duction of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HHW Express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or  use of 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ower L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90680" y="3043080"/>
            <a:ext cx="736560" cy="246240"/>
          </a:xfrm>
          <a:prstGeom prst="rightArrow">
            <a:avLst>
              <a:gd name="adj1" fmla="val 50000"/>
              <a:gd name="adj2" fmla="val 74781"/>
            </a:avLst>
          </a:prstGeom>
          <a:solidFill>
            <a:srgbClr val="008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41360" y="2965320"/>
            <a:ext cx="709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Fitt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often is the method of Data Analysis far better than the Data themselv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33440" y="3917880"/>
            <a:ext cx="816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everal different LHHW express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well fitted to th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3440" y="4986360"/>
            <a:ext cx="871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 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good f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oesn’t mean anything with respect to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490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331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Common Approxi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4760" y="1060560"/>
            <a:ext cx="8164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ady state  (eliminates transient behavi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uasi-equilibrium (for fast reacti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rreversible steps (no approach to equilibriu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st abundant reaction intermediate (MARI, does not change with time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7520" y="2836800"/>
            <a:ext cx="8164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Aspec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oichiometric consist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rmodynamic consist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46240" y="4237200"/>
            <a:ext cx="864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. Mezaki, H. Inoue (Rate equations of Solid-Catalysed Reactions, Univ. of Tokyo Press (1991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pt two, ALL reactions could be fitted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HH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331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Assumptions in the LHHW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19200" y="1046160"/>
            <a:ext cx="742788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muir adsorption isoth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lateral inter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sites are of the same quality (homogeneous surface, no structure sensitivity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ant number of 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st one or zero molecules on one site (no complex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t of adsorption is independent of occup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urface diffusion is inclu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 field approximation   (r = k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19280" y="4019400"/>
            <a:ext cx="742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 most cases none of these approximations is fulfilled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90480" y="4770360"/>
            <a:ext cx="8048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rma et al. (CES 43 (1988) 785)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general, the same level of fiting is obtained fo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ll three isotherm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angmuir, Freundlich and Temkin)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404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NSTATIONARY</a:t>
            </a: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M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EASU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34800" y="1052640"/>
            <a:ext cx="8164800" cy="39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erature Programmed Desorption (TP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erature Programmed Oxidation/Reduction (TPO/TP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erature Scanning Reactor (TSR) 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(see slides 11-1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se measu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ady-State Isotopic Transient Kinetic Analysis (SSITK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oral Analysis of Products reactor (TA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 Front Analysis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ofman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Response Analysis (composition, pressure, temp.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Thermal Frequency Response Method, Stopp Eff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5634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Explanation of the techniques (5), (7) and (8)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including examples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are available in the scanned copies, see file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Keil_scans.doc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, pages 1-15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280" y="5632560"/>
            <a:ext cx="8867880" cy="82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Dynamic Microkinetic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4800" y="1052640"/>
            <a:ext cx="8809200" cy="19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xample MeOH synthesis on Cu/Zn/Al cataly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rom Ovesen et al. J. Catal. 168 (1997) 13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s change of number of active sites as a function of reaction 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ulff construction to describe change in particle morphology (the shape of a free particle of a given volume is simply determined by the condition that the total free energy is at minimu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3129120"/>
            <a:ext cx="8847000" cy="34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odel assump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regions are distinguished: outer gas phase, gas inside pellets and adsorbed phase on the catalyst surf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atalyst properties along the radium may vary (porosity, totuosity etc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s transport within the poser is decribed by the Dusty-ga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transfer resistance at the outer boundary layer may be inclu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sorption/desorption processes can be described as kinetically limited or a equilibr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entration and temperature profiles are talen into consid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ary reaction steps can be described as detailed as pos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actor is described by a cell model. This may be chang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6T10:47:26Z</dcterms:created>
  <dc:creator>Berger</dc:creator>
  <dc:description/>
  <dc:language>en-US</dc:language>
  <cp:lastModifiedBy>Berger</cp:lastModifiedBy>
  <dcterms:modified xsi:type="dcterms:W3CDTF">2002-08-08T09:35:36Z</dcterms:modified>
  <cp:revision>17</cp:revision>
  <dc:subject/>
  <dc:title>No Slide Title</dc:title>
</cp:coreProperties>
</file>