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1A4B-08E6-4ABC-8B26-23A68241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6C5-77AA-4076-8412-F4E861E6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C9D5-3491-413B-9961-2661F6E6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B82-D610-4284-8DA3-C1165159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D9D1-1160-49B2-834C-D99CC7D2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3837-7D0C-4799-B584-099BCC38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40A2-2414-4C4C-9A91-84347E4E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F62-E709-4581-BB0D-B4653B0D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B988-12DE-4888-8162-08894908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385-F01E-4CA5-BAD1-D7C29E31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8E9-B3C2-43B8-8753-7C441A24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C87-718E-4831-BB85-607895CC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602A-EAA5-4425-9365-7FD8621CA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230040"/>
            <a:ext cx="8326440" cy="1386000"/>
          </a:xfrm>
          <a:prstGeom prst="rect">
            <a:avLst/>
          </a:prstGeom>
          <a:solidFill>
            <a:srgbClr val="ffff99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 rot="10800000">
            <a:off x="905040" y="3975480"/>
            <a:ext cx="7581600" cy="2489400"/>
          </a:xfrm>
          <a:prstGeom prst="cube">
            <a:avLst>
              <a:gd name="adj" fmla="val 7863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 rot="10800000">
            <a:off x="905040" y="3443400"/>
            <a:ext cx="7581600" cy="2489040"/>
          </a:xfrm>
          <a:prstGeom prst="cube">
            <a:avLst>
              <a:gd name="adj" fmla="val 78634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487840" y="4500000"/>
            <a:ext cx="339480" cy="346320"/>
            <a:chOff x="5487840" y="4500000"/>
            <a:chExt cx="339480" cy="346320"/>
          </a:xfrm>
        </p:grpSpPr>
        <p:sp>
          <p:nvSpPr>
            <p:cNvPr id="45" name=""/>
            <p:cNvSpPr/>
            <p:nvPr/>
          </p:nvSpPr>
          <p:spPr>
            <a:xfrm>
              <a:off x="5529240" y="454176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2700000">
              <a:off x="5547240" y="453636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489640" y="4187160"/>
            <a:ext cx="339840" cy="346680"/>
            <a:chOff x="5489640" y="4187160"/>
            <a:chExt cx="339840" cy="346680"/>
          </a:xfrm>
        </p:grpSpPr>
        <p:sp>
          <p:nvSpPr>
            <p:cNvPr id="48" name=""/>
            <p:cNvSpPr/>
            <p:nvPr/>
          </p:nvSpPr>
          <p:spPr>
            <a:xfrm>
              <a:off x="5531040" y="422928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2700000">
              <a:off x="5548680" y="42231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948360" y="4925520"/>
            <a:ext cx="339480" cy="346320"/>
            <a:chOff x="6948360" y="4925520"/>
            <a:chExt cx="339480" cy="346320"/>
          </a:xfrm>
        </p:grpSpPr>
        <p:sp>
          <p:nvSpPr>
            <p:cNvPr id="51" name=""/>
            <p:cNvSpPr/>
            <p:nvPr/>
          </p:nvSpPr>
          <p:spPr>
            <a:xfrm>
              <a:off x="6989760" y="49672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700000">
              <a:off x="7007760" y="49618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940440" y="4615920"/>
            <a:ext cx="339480" cy="346320"/>
            <a:chOff x="6940440" y="4615920"/>
            <a:chExt cx="339480" cy="346320"/>
          </a:xfrm>
        </p:grpSpPr>
        <p:sp>
          <p:nvSpPr>
            <p:cNvPr id="54" name=""/>
            <p:cNvSpPr/>
            <p:nvPr/>
          </p:nvSpPr>
          <p:spPr>
            <a:xfrm>
              <a:off x="6981840" y="46576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700000">
              <a:off x="6999840" y="46522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946920" y="4301280"/>
            <a:ext cx="338040" cy="348120"/>
            <a:chOff x="6946920" y="4301280"/>
            <a:chExt cx="338040" cy="348120"/>
          </a:xfrm>
        </p:grpSpPr>
        <p:sp>
          <p:nvSpPr>
            <p:cNvPr id="57" name=""/>
            <p:cNvSpPr/>
            <p:nvPr/>
          </p:nvSpPr>
          <p:spPr>
            <a:xfrm>
              <a:off x="6986520" y="434484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700000">
              <a:off x="7005960" y="433728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476440" y="4308120"/>
            <a:ext cx="337680" cy="347760"/>
            <a:chOff x="2476440" y="4308120"/>
            <a:chExt cx="337680" cy="347760"/>
          </a:xfrm>
        </p:grpSpPr>
        <p:sp>
          <p:nvSpPr>
            <p:cNvPr id="60" name=""/>
            <p:cNvSpPr/>
            <p:nvPr/>
          </p:nvSpPr>
          <p:spPr>
            <a:xfrm>
              <a:off x="2516040" y="4351320"/>
              <a:ext cx="29808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700000">
              <a:off x="2535840" y="43444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781360" y="4307760"/>
            <a:ext cx="338040" cy="348120"/>
            <a:chOff x="2781360" y="4307760"/>
            <a:chExt cx="338040" cy="348120"/>
          </a:xfrm>
        </p:grpSpPr>
        <p:sp>
          <p:nvSpPr>
            <p:cNvPr id="63" name=""/>
            <p:cNvSpPr/>
            <p:nvPr/>
          </p:nvSpPr>
          <p:spPr>
            <a:xfrm>
              <a:off x="2820960" y="43513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700000">
              <a:off x="2840400" y="43437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822840" y="4784040"/>
            <a:ext cx="338040" cy="348120"/>
            <a:chOff x="3822840" y="4784040"/>
            <a:chExt cx="338040" cy="348120"/>
          </a:xfrm>
        </p:grpSpPr>
        <p:sp>
          <p:nvSpPr>
            <p:cNvPr id="66" name=""/>
            <p:cNvSpPr/>
            <p:nvPr/>
          </p:nvSpPr>
          <p:spPr>
            <a:xfrm>
              <a:off x="3862440" y="482760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700000">
              <a:off x="3881880" y="482004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824280" y="4101480"/>
            <a:ext cx="338040" cy="348120"/>
            <a:chOff x="3824280" y="4101480"/>
            <a:chExt cx="338040" cy="348120"/>
          </a:xfrm>
        </p:grpSpPr>
        <p:sp>
          <p:nvSpPr>
            <p:cNvPr id="69" name=""/>
            <p:cNvSpPr/>
            <p:nvPr/>
          </p:nvSpPr>
          <p:spPr>
            <a:xfrm>
              <a:off x="3863880" y="414504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700000">
              <a:off x="3883320" y="413748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092240" y="2694960"/>
            <a:ext cx="338040" cy="348120"/>
            <a:chOff x="1092240" y="2694960"/>
            <a:chExt cx="338040" cy="348120"/>
          </a:xfrm>
        </p:grpSpPr>
        <p:sp>
          <p:nvSpPr>
            <p:cNvPr id="72" name=""/>
            <p:cNvSpPr/>
            <p:nvPr/>
          </p:nvSpPr>
          <p:spPr>
            <a:xfrm>
              <a:off x="1131840" y="2738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700000">
              <a:off x="1151280" y="2730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397160" y="2694960"/>
            <a:ext cx="338040" cy="348120"/>
            <a:chOff x="1397160" y="2694960"/>
            <a:chExt cx="338040" cy="348120"/>
          </a:xfrm>
        </p:grpSpPr>
        <p:sp>
          <p:nvSpPr>
            <p:cNvPr id="75" name=""/>
            <p:cNvSpPr/>
            <p:nvPr/>
          </p:nvSpPr>
          <p:spPr>
            <a:xfrm>
              <a:off x="1436760" y="2738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700000">
              <a:off x="1456200" y="2730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482920" y="2370960"/>
            <a:ext cx="338040" cy="348120"/>
            <a:chOff x="2482920" y="2370960"/>
            <a:chExt cx="338040" cy="348120"/>
          </a:xfrm>
        </p:grpSpPr>
        <p:sp>
          <p:nvSpPr>
            <p:cNvPr id="78" name=""/>
            <p:cNvSpPr/>
            <p:nvPr/>
          </p:nvSpPr>
          <p:spPr>
            <a:xfrm>
              <a:off x="2522520" y="2414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700000">
              <a:off x="2541960" y="2406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87840" y="2370960"/>
            <a:ext cx="338040" cy="348120"/>
            <a:chOff x="2787840" y="2370960"/>
            <a:chExt cx="338040" cy="348120"/>
          </a:xfrm>
        </p:grpSpPr>
        <p:sp>
          <p:nvSpPr>
            <p:cNvPr id="81" name=""/>
            <p:cNvSpPr/>
            <p:nvPr/>
          </p:nvSpPr>
          <p:spPr>
            <a:xfrm>
              <a:off x="2827440" y="2414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700000">
              <a:off x="2846880" y="2406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043600" y="4025160"/>
            <a:ext cx="338040" cy="348120"/>
            <a:chOff x="5043600" y="4025160"/>
            <a:chExt cx="338040" cy="348120"/>
          </a:xfrm>
        </p:grpSpPr>
        <p:sp>
          <p:nvSpPr>
            <p:cNvPr id="84" name=""/>
            <p:cNvSpPr/>
            <p:nvPr/>
          </p:nvSpPr>
          <p:spPr>
            <a:xfrm>
              <a:off x="5083200" y="40687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700000">
              <a:off x="5102640" y="40611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259160" y="2772720"/>
            <a:ext cx="339480" cy="346320"/>
            <a:chOff x="4259160" y="2772720"/>
            <a:chExt cx="339480" cy="346320"/>
          </a:xfrm>
        </p:grpSpPr>
        <p:sp>
          <p:nvSpPr>
            <p:cNvPr id="87" name=""/>
            <p:cNvSpPr/>
            <p:nvPr/>
          </p:nvSpPr>
          <p:spPr>
            <a:xfrm>
              <a:off x="4300560" y="28144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700000">
              <a:off x="4318560" y="28090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260600" y="2460240"/>
            <a:ext cx="339480" cy="346320"/>
            <a:chOff x="4260600" y="2460240"/>
            <a:chExt cx="339480" cy="346320"/>
          </a:xfrm>
        </p:grpSpPr>
        <p:sp>
          <p:nvSpPr>
            <p:cNvPr id="90" name=""/>
            <p:cNvSpPr/>
            <p:nvPr/>
          </p:nvSpPr>
          <p:spPr>
            <a:xfrm>
              <a:off x="4302000" y="250200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700000">
              <a:off x="4320000" y="249660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526000" y="2188800"/>
            <a:ext cx="339480" cy="346320"/>
            <a:chOff x="5526000" y="2188800"/>
            <a:chExt cx="339480" cy="346320"/>
          </a:xfrm>
        </p:grpSpPr>
        <p:sp>
          <p:nvSpPr>
            <p:cNvPr id="93" name=""/>
            <p:cNvSpPr/>
            <p:nvPr/>
          </p:nvSpPr>
          <p:spPr>
            <a:xfrm>
              <a:off x="5567400" y="223056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700000">
              <a:off x="5585400" y="222516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527440" y="1875960"/>
            <a:ext cx="339480" cy="346320"/>
            <a:chOff x="5527440" y="1875960"/>
            <a:chExt cx="339480" cy="346320"/>
          </a:xfrm>
        </p:grpSpPr>
        <p:sp>
          <p:nvSpPr>
            <p:cNvPr id="96" name=""/>
            <p:cNvSpPr/>
            <p:nvPr/>
          </p:nvSpPr>
          <p:spPr>
            <a:xfrm>
              <a:off x="5568840" y="191772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700000">
              <a:off x="5586840" y="191232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822400" y="2763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68320" y="3024360"/>
            <a:ext cx="1054080" cy="1320480"/>
          </a:xfrm>
          <a:custGeom>
            <a:avLst/>
            <a:gdLst/>
            <a:ahLst/>
            <a:rect l="l" t="t" r="r" b="b"/>
            <a:pathLst>
              <a:path w="640" h="760">
                <a:moveTo>
                  <a:pt x="640" y="760"/>
                </a:moveTo>
                <a:lnTo>
                  <a:pt x="620" y="636"/>
                </a:lnTo>
                <a:lnTo>
                  <a:pt x="592" y="558"/>
                </a:lnTo>
                <a:lnTo>
                  <a:pt x="568" y="508"/>
                </a:lnTo>
                <a:lnTo>
                  <a:pt x="524" y="448"/>
                </a:lnTo>
                <a:lnTo>
                  <a:pt x="466" y="396"/>
                </a:lnTo>
                <a:lnTo>
                  <a:pt x="374" y="310"/>
                </a:lnTo>
                <a:lnTo>
                  <a:pt x="256" y="20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2400" y="3506760"/>
            <a:ext cx="1800" cy="812880"/>
          </a:xfrm>
          <a:custGeom>
            <a:avLst/>
            <a:gdLst/>
            <a:ahLst/>
            <a:rect l="l" t="t" r="r" b="b"/>
            <a:pathLst>
              <a:path w="1" h="512">
                <a:moveTo>
                  <a:pt x="0" y="0"/>
                </a:moveTo>
                <a:lnTo>
                  <a:pt x="0" y="5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46400" y="4592520"/>
            <a:ext cx="669960" cy="3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84640" y="4065480"/>
            <a:ext cx="879480" cy="155520"/>
          </a:xfrm>
          <a:custGeom>
            <a:avLst/>
            <a:gdLst/>
            <a:ahLst/>
            <a:rect l="l" t="t" r="r" b="b"/>
            <a:pathLst>
              <a:path w="554" h="98">
                <a:moveTo>
                  <a:pt x="0" y="98"/>
                </a:moveTo>
                <a:lnTo>
                  <a:pt x="84" y="66"/>
                </a:lnTo>
                <a:lnTo>
                  <a:pt x="180" y="34"/>
                </a:lnTo>
                <a:lnTo>
                  <a:pt x="262" y="16"/>
                </a:lnTo>
                <a:lnTo>
                  <a:pt x="322" y="8"/>
                </a:lnTo>
                <a:lnTo>
                  <a:pt x="382" y="0"/>
                </a:lnTo>
                <a:lnTo>
                  <a:pt x="444" y="6"/>
                </a:lnTo>
                <a:lnTo>
                  <a:pt x="554" y="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05440" y="4614840"/>
            <a:ext cx="663480" cy="374760"/>
          </a:xfrm>
          <a:custGeom>
            <a:avLst/>
            <a:gdLst/>
            <a:ahLst/>
            <a:rect l="l" t="t" r="r" b="b"/>
            <a:pathLst>
              <a:path w="418" h="236">
                <a:moveTo>
                  <a:pt x="418" y="236"/>
                </a:moveTo>
                <a:lnTo>
                  <a:pt x="400" y="204"/>
                </a:lnTo>
                <a:lnTo>
                  <a:pt x="368" y="168"/>
                </a:lnTo>
                <a:lnTo>
                  <a:pt x="300" y="118"/>
                </a:lnTo>
                <a:lnTo>
                  <a:pt x="240" y="80"/>
                </a:ln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1080" y="2827440"/>
            <a:ext cx="1101600" cy="1314360"/>
          </a:xfrm>
          <a:custGeom>
            <a:avLst/>
            <a:gdLst/>
            <a:ahLst/>
            <a:rect l="l" t="t" r="r" b="b"/>
            <a:pathLst>
              <a:path w="694" h="828">
                <a:moveTo>
                  <a:pt x="694" y="828"/>
                </a:moveTo>
                <a:lnTo>
                  <a:pt x="694" y="700"/>
                </a:lnTo>
                <a:lnTo>
                  <a:pt x="660" y="614"/>
                </a:lnTo>
                <a:lnTo>
                  <a:pt x="588" y="502"/>
                </a:lnTo>
                <a:lnTo>
                  <a:pt x="512" y="396"/>
                </a:lnTo>
                <a:lnTo>
                  <a:pt x="416" y="294"/>
                </a:lnTo>
                <a:lnTo>
                  <a:pt x="306" y="204"/>
                </a:lnTo>
                <a:lnTo>
                  <a:pt x="176" y="1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05640" y="264312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51440" y="4538520"/>
            <a:ext cx="1095480" cy="203400"/>
          </a:xfrm>
          <a:custGeom>
            <a:avLst/>
            <a:gdLst/>
            <a:ahLst/>
            <a:rect l="l" t="t" r="r" b="b"/>
            <a:pathLst>
              <a:path w="690" h="128">
                <a:moveTo>
                  <a:pt x="0" y="0"/>
                </a:moveTo>
                <a:lnTo>
                  <a:pt x="158" y="6"/>
                </a:lnTo>
                <a:lnTo>
                  <a:pt x="278" y="16"/>
                </a:lnTo>
                <a:lnTo>
                  <a:pt x="382" y="32"/>
                </a:lnTo>
                <a:lnTo>
                  <a:pt x="466" y="50"/>
                </a:lnTo>
                <a:lnTo>
                  <a:pt x="560" y="74"/>
                </a:lnTo>
                <a:lnTo>
                  <a:pt x="690" y="12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868560"/>
            <a:ext cx="1076400" cy="955800"/>
          </a:xfrm>
          <a:custGeom>
            <a:avLst/>
            <a:gdLst/>
            <a:ahLst/>
            <a:rect l="l" t="t" r="r" b="b"/>
            <a:pathLst>
              <a:path w="536" h="472">
                <a:moveTo>
                  <a:pt x="0" y="472"/>
                </a:moveTo>
                <a:lnTo>
                  <a:pt x="92" y="434"/>
                </a:lnTo>
                <a:lnTo>
                  <a:pt x="170" y="336"/>
                </a:lnTo>
                <a:lnTo>
                  <a:pt x="256" y="206"/>
                </a:lnTo>
                <a:lnTo>
                  <a:pt x="326" y="116"/>
                </a:lnTo>
                <a:lnTo>
                  <a:pt x="370" y="68"/>
                </a:lnTo>
                <a:lnTo>
                  <a:pt x="446" y="16"/>
                </a:lnTo>
                <a:lnTo>
                  <a:pt x="5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96280" y="3982320"/>
            <a:ext cx="339840" cy="346680"/>
            <a:chOff x="8396280" y="3982320"/>
            <a:chExt cx="339840" cy="346680"/>
          </a:xfrm>
        </p:grpSpPr>
        <p:sp>
          <p:nvSpPr>
            <p:cNvPr id="109" name=""/>
            <p:cNvSpPr/>
            <p:nvPr/>
          </p:nvSpPr>
          <p:spPr>
            <a:xfrm>
              <a:off x="8437680" y="402444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700000">
              <a:off x="8455320" y="401832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388360" y="3672720"/>
            <a:ext cx="339840" cy="346680"/>
            <a:chOff x="8388360" y="3672720"/>
            <a:chExt cx="339840" cy="346680"/>
          </a:xfrm>
        </p:grpSpPr>
        <p:sp>
          <p:nvSpPr>
            <p:cNvPr id="112" name=""/>
            <p:cNvSpPr/>
            <p:nvPr/>
          </p:nvSpPr>
          <p:spPr>
            <a:xfrm>
              <a:off x="8429760" y="371484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700000">
              <a:off x="8447400" y="370872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8394840" y="3358440"/>
            <a:ext cx="338040" cy="348120"/>
            <a:chOff x="8394840" y="3358440"/>
            <a:chExt cx="338040" cy="348120"/>
          </a:xfrm>
        </p:grpSpPr>
        <p:sp>
          <p:nvSpPr>
            <p:cNvPr id="115" name=""/>
            <p:cNvSpPr/>
            <p:nvPr/>
          </p:nvSpPr>
          <p:spPr>
            <a:xfrm>
              <a:off x="8434440" y="340200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700000">
              <a:off x="8453880" y="339444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836280" y="306396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98280" y="284796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1360" y="4930920"/>
            <a:ext cx="125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 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95800" y="5464080"/>
            <a:ext cx="24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alyst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95800" y="5997600"/>
            <a:ext cx="17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16800" y="5591160"/>
            <a:ext cx="125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7720" y="564048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443640" y="562932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77880" y="43830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706400" y="4498920"/>
            <a:ext cx="324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406600">
            <a:off x="4527720" y="27745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71080" y="278460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d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716400">
            <a:off x="5880240" y="4203720"/>
            <a:ext cx="100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51440" y="3419640"/>
            <a:ext cx="116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70320" y="509580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444800">
            <a:off x="2693520" y="47844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9033200">
            <a:off x="7243920" y="372348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338720"/>
            <a:ext cx="330120" cy="606240"/>
          </a:xfrm>
          <a:custGeom>
            <a:avLst/>
            <a:gdLst/>
            <a:ahLst/>
            <a:rect l="l" t="t" r="r" b="b"/>
            <a:pathLst>
              <a:path w="208" h="382">
                <a:moveTo>
                  <a:pt x="0" y="382"/>
                </a:moveTo>
                <a:lnTo>
                  <a:pt x="68" y="308"/>
                </a:lnTo>
                <a:lnTo>
                  <a:pt x="120" y="230"/>
                </a:lnTo>
                <a:lnTo>
                  <a:pt x="160" y="146"/>
                </a:lnTo>
                <a:lnTo>
                  <a:pt x="208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00480" y="4911840"/>
            <a:ext cx="25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adsorbate-adsorb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3920" y="217440"/>
            <a:ext cx="80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ynamic methods in Chemical kine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880" y="971640"/>
            <a:ext cx="548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.J. Keil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 Hamburg-Har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48440" y="191304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kin - Jun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61040" y="1935000"/>
            <a:ext cx="2651040" cy="466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tuhh_geel" descr=""/>
          <p:cNvPicPr/>
          <p:nvPr/>
        </p:nvPicPr>
        <p:blipFill>
          <a:blip r:embed="rId1"/>
          <a:stretch/>
        </p:blipFill>
        <p:spPr>
          <a:xfrm>
            <a:off x="6510240" y="888840"/>
            <a:ext cx="1905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41200" y="515880"/>
            <a:ext cx="873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Model equations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ith som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xplanation (3 page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surface reactions model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(1 page) and several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dynamic simulation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using sinusoidal feed (4 pages) and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reactor set-up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(1 pag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16-28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527040"/>
            <a:ext cx="8867880" cy="19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Temperature Scanning Reactor (TS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2040" y="1344600"/>
            <a:ext cx="31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. Kolkowski, F. Kei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76640" y="1104840"/>
            <a:ext cx="1905120" cy="609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040520" y="1419120"/>
            <a:ext cx="1133640" cy="819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14440" y="1878120"/>
            <a:ext cx="55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4080" indent="-10540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-operation with: Liebner, Wolf and Ba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2000" y="2513160"/>
            <a:ext cx="722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3440" indent="-133344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iv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tion of the intrinsic kinetic parameters of a heterogeneous catalysed 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600" y="3198960"/>
            <a:ext cx="84531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cessary assum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influence of heat and mass transfer from gas bulk phase to catalyst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emperature dependence of the catalyst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2640" y="4379760"/>
            <a:ext cx="845352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erimental boundary condition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catalytic activity along the b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 flow in the tube re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initial temperature of the temperatur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the same temperature program at the in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ctor’s environment is heated-up as in 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at transfer reactor/environment determines the heat rem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0280" y="1104840"/>
            <a:ext cx="7581600" cy="12193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97000" y="608040"/>
            <a:ext cx="845316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erimental procedur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a constant mole flux of constant 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a certain temperature program between two fixed temperature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he temperature and the composition at the outlet of the reactor while the temperature program is 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end temperature of the program is reached, cool down the reactor to start temperature in 2., adjust a new mole flux but keep the composition of 1. constant and repeat 2. with the same temperatur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this procedure for at least four mole flu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0600" y="4770360"/>
            <a:ext cx="84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Reactor set-up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model equation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some typical experimental result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with some explanation (9 pages),</a:t>
            </a: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29-3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1680" y="4781520"/>
            <a:ext cx="8524800" cy="125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23720" y="798480"/>
            <a:ext cx="845352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vantages TSR metho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investigation of a reactor over a wide temperatur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derivation of the reaction rate of each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investigation of the influence of different partial pressures of reactants on the reaction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computation of reaction rates and kinetic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120" y="3300480"/>
            <a:ext cx="8453520" cy="11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vantages TSR metho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demands on experimental data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systematical errors caused by velocity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assical Catalytic Kine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1003320"/>
            <a:ext cx="87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bo or a REAL Thing ?   (Boudart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8680" y="43956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HHW, 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8120"/>
            <a:ext cx="878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udart (1980 !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ucture Insensitive rea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HHW is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 of Chemical kinetic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ccessful Application of an Inadequate Model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37926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perm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kinetics: What is the point of matt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0360" y="511812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ometimes the best Fit to Experimental Rate Data is given by Equations that are neither of LHHW form not of the form of a Power Rate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0360" y="100332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of kinetic data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talytic processes on surfaces from measurements in the gas ph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general NOT possible (ill-posed problem, not uniq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7320" y="4638600"/>
            <a:ext cx="1919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5480" y="3965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1600" y="4822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456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3500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2868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5200" y="4695840"/>
            <a:ext cx="115560" cy="114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25640" y="4695840"/>
            <a:ext cx="115920" cy="114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01800" y="4108320"/>
            <a:ext cx="1778040" cy="9684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05040" y="4649760"/>
            <a:ext cx="1778040" cy="276120"/>
          </a:xfrm>
          <a:custGeom>
            <a:avLst/>
            <a:gdLst/>
            <a:ahLst/>
            <a:rect l="l" t="t" r="r" b="b"/>
            <a:pathLst>
              <a:path w="1120" h="174">
                <a:moveTo>
                  <a:pt x="0" y="173"/>
                </a:moveTo>
                <a:lnTo>
                  <a:pt x="215" y="174"/>
                </a:lnTo>
                <a:lnTo>
                  <a:pt x="305" y="0"/>
                </a:lnTo>
                <a:lnTo>
                  <a:pt x="397" y="174"/>
                </a:lnTo>
                <a:lnTo>
                  <a:pt x="559" y="174"/>
                </a:lnTo>
                <a:lnTo>
                  <a:pt x="649" y="1"/>
                </a:lnTo>
                <a:lnTo>
                  <a:pt x="740" y="172"/>
                </a:lnTo>
                <a:lnTo>
                  <a:pt x="850" y="172"/>
                </a:lnTo>
                <a:lnTo>
                  <a:pt x="941" y="0"/>
                </a:lnTo>
                <a:lnTo>
                  <a:pt x="1030" y="172"/>
                </a:lnTo>
                <a:lnTo>
                  <a:pt x="1120" y="17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83320" y="4219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48160" y="4213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43520" y="4213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870360" y="4448160"/>
            <a:ext cx="230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18160" y="36860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83080" y="4635360"/>
            <a:ext cx="189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38840" y="4419720"/>
            <a:ext cx="1269720" cy="139680"/>
          </a:xfrm>
          <a:custGeom>
            <a:avLst/>
            <a:gdLst/>
            <a:ahLst/>
            <a:rect l="l" t="t" r="r" b="b"/>
            <a:pathLst>
              <a:path w="800" h="88">
                <a:moveTo>
                  <a:pt x="0" y="84"/>
                </a:moveTo>
                <a:lnTo>
                  <a:pt x="91" y="84"/>
                </a:lnTo>
                <a:lnTo>
                  <a:pt x="145" y="78"/>
                </a:lnTo>
                <a:lnTo>
                  <a:pt x="190" y="67"/>
                </a:lnTo>
                <a:lnTo>
                  <a:pt x="233" y="49"/>
                </a:lnTo>
                <a:lnTo>
                  <a:pt x="268" y="33"/>
                </a:lnTo>
                <a:lnTo>
                  <a:pt x="299" y="16"/>
                </a:lnTo>
                <a:lnTo>
                  <a:pt x="336" y="7"/>
                </a:lnTo>
                <a:lnTo>
                  <a:pt x="368" y="1"/>
                </a:lnTo>
                <a:lnTo>
                  <a:pt x="403" y="0"/>
                </a:lnTo>
                <a:lnTo>
                  <a:pt x="440" y="1"/>
                </a:lnTo>
                <a:lnTo>
                  <a:pt x="478" y="10"/>
                </a:lnTo>
                <a:lnTo>
                  <a:pt x="511" y="19"/>
                </a:lnTo>
                <a:lnTo>
                  <a:pt x="545" y="40"/>
                </a:lnTo>
                <a:lnTo>
                  <a:pt x="583" y="60"/>
                </a:lnTo>
                <a:lnTo>
                  <a:pt x="616" y="73"/>
                </a:lnTo>
                <a:lnTo>
                  <a:pt x="661" y="84"/>
                </a:lnTo>
                <a:lnTo>
                  <a:pt x="694" y="88"/>
                </a:lnTo>
                <a:lnTo>
                  <a:pt x="800" y="8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02200" y="4815000"/>
            <a:ext cx="2346120" cy="707760"/>
          </a:xfrm>
          <a:custGeom>
            <a:avLst/>
            <a:gdLst/>
            <a:ahLst/>
            <a:rect l="l" t="t" r="r" b="b"/>
            <a:pathLst>
              <a:path w="1478" h="446">
                <a:moveTo>
                  <a:pt x="1478" y="0"/>
                </a:moveTo>
                <a:lnTo>
                  <a:pt x="1443" y="80"/>
                </a:lnTo>
                <a:lnTo>
                  <a:pt x="1389" y="153"/>
                </a:lnTo>
                <a:lnTo>
                  <a:pt x="1309" y="227"/>
                </a:lnTo>
                <a:lnTo>
                  <a:pt x="1195" y="290"/>
                </a:lnTo>
                <a:lnTo>
                  <a:pt x="1021" y="370"/>
                </a:lnTo>
                <a:lnTo>
                  <a:pt x="864" y="412"/>
                </a:lnTo>
                <a:lnTo>
                  <a:pt x="697" y="437"/>
                </a:lnTo>
                <a:lnTo>
                  <a:pt x="526" y="446"/>
                </a:lnTo>
                <a:lnTo>
                  <a:pt x="360" y="442"/>
                </a:lnTo>
                <a:lnTo>
                  <a:pt x="279" y="430"/>
                </a:lnTo>
                <a:lnTo>
                  <a:pt x="177" y="392"/>
                </a:lnTo>
                <a:lnTo>
                  <a:pt x="96" y="353"/>
                </a:lnTo>
                <a:lnTo>
                  <a:pt x="0" y="279"/>
                </a:ln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32480" y="4010040"/>
            <a:ext cx="157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is at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97840" y="3592440"/>
            <a:ext cx="504720" cy="409680"/>
          </a:xfrm>
          <a:custGeom>
            <a:avLst/>
            <a:gdLst/>
            <a:ahLst/>
            <a:rect l="l" t="t" r="r" b="b"/>
            <a:pathLst>
              <a:path w="318" h="258">
                <a:moveTo>
                  <a:pt x="0" y="0"/>
                </a:moveTo>
                <a:lnTo>
                  <a:pt x="62" y="14"/>
                </a:lnTo>
                <a:lnTo>
                  <a:pt x="116" y="42"/>
                </a:lnTo>
                <a:lnTo>
                  <a:pt x="156" y="72"/>
                </a:lnTo>
                <a:lnTo>
                  <a:pt x="197" y="104"/>
                </a:lnTo>
                <a:lnTo>
                  <a:pt x="237" y="143"/>
                </a:lnTo>
                <a:lnTo>
                  <a:pt x="270" y="182"/>
                </a:lnTo>
                <a:lnTo>
                  <a:pt x="318" y="258"/>
                </a:ln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65720" y="3263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46840" y="552456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nvers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28480" y="42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Key problems in the stud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kinetics of catalytic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63680" y="104760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. Stolze: Prog. Surf. Sci.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2000) 6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496880"/>
            <a:ext cx="74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s cannot be deduced from the net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360" y="2154240"/>
            <a:ext cx="74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action wit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kine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 necessar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" y="4057560"/>
            <a:ext cx="74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mecha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hav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ry complex kin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2960" y="4454640"/>
            <a:ext cx="85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fferent reaction 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predict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me overall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0360" y="4834080"/>
            <a:ext cx="82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mechanistic details cannot be deduced from an experimental determination of the form of the kinetic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" y="5411880"/>
            <a:ext cx="8783640" cy="13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dangerous to argue by analogy since the reaction mechanism may be completely differen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 HI   :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k/K)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HI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B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Br    proceeds via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in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" y="1776240"/>
            <a:ext cx="741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in gener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k/K)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14680" y="192240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0160" y="2759040"/>
            <a:ext cx="741384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4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=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6640" y="2801880"/>
            <a:ext cx="2389320" cy="319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2120" y="290196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62000" y="3244680"/>
            <a:ext cx="241560" cy="92160"/>
          </a:xfrm>
          <a:prstGeom prst="leftRightArrow">
            <a:avLst>
              <a:gd name="adj1" fmla="val 50000"/>
              <a:gd name="adj2" fmla="val 521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43040" y="3589200"/>
            <a:ext cx="257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28920" y="3879720"/>
            <a:ext cx="257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81160" y="610704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60560" y="6440400"/>
            <a:ext cx="241560" cy="92160"/>
          </a:xfrm>
          <a:prstGeom prst="leftRightArrow">
            <a:avLst>
              <a:gd name="adj1" fmla="val 50000"/>
              <a:gd name="adj2" fmla="val 521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GENERAL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0360" y="1204920"/>
            <a:ext cx="816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ome Experiments and Chemical Knowledge a couple of “Mechanisms” (Sequences of Elementary steps) are assu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6280" y="2306520"/>
            <a:ext cx="736560" cy="246240"/>
          </a:xfrm>
          <a:prstGeom prst="rightArrow">
            <a:avLst>
              <a:gd name="adj1" fmla="val 50000"/>
              <a:gd name="adj2" fmla="val 74781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41360" y="2257560"/>
            <a:ext cx="70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tion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HHW Expres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r  use of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wer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0680" y="3043080"/>
            <a:ext cx="736560" cy="246240"/>
          </a:xfrm>
          <a:prstGeom prst="rightArrow">
            <a:avLst>
              <a:gd name="adj1" fmla="val 50000"/>
              <a:gd name="adj2" fmla="val 74781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41360" y="2965320"/>
            <a:ext cx="70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it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often is the method of Data Analysis far better than the Data themselv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3440" y="3917880"/>
            <a:ext cx="816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veral different LHHW expres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well fitted to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3440" y="4986360"/>
            <a:ext cx="87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ood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n’t mean anything with respect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90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331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ommon Approxi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4760" y="1060560"/>
            <a:ext cx="8164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state  (eliminates transient behavi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asi-equilibrium (for fast rea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rreversible steps (no approach to equilibri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st abundant reaction intermediate (MARI, does not change with time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520" y="2836800"/>
            <a:ext cx="816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Aspe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ichiometric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modynamic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6240" y="423720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. Mezaki, H. Inoue (Rate equations of Solid-Catalysed Reactions, Univ. of Tokyo Press (1991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two, ALL reactions could be fitt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HH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331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ssumptions in the LHHW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9200" y="1046160"/>
            <a:ext cx="74278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muir adsorption isoth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ateral 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ites are of the same quality (homogeneous surface, no structure sensitivity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number of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one or zero molecules on one site (no complex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of adsorption is independent of occu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urface diffusion is in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field approximation   (r = k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9280" y="4019400"/>
            <a:ext cx="74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 most cases none of these approximations is fulfilled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0480" y="4770360"/>
            <a:ext cx="804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ma et al. (CES 43 (1988) 785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 same level of fiting is obtained 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 three isother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angmuir, Freundlich and Temkin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NSTATIONARY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" y="1052640"/>
            <a:ext cx="816480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Programmed Desorption (T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Programmed Oxidation/Reduction (TPO/TP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Scanning Reactor (TSR) 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see slides 11-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-State Isotopic Transient Kinetic Analysis (SSITK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l Analysis of Products reactor (T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 Front Analysi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fman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Response Analysis (composition, pressure, temp.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hermal Frequency Response Method, Stopp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5634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Explanation of the techniques (5), (7) and (8)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including example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1-15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5632560"/>
            <a:ext cx="8867880" cy="82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ynamic Microkinetic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" y="1052640"/>
            <a:ext cx="880920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 MeOH synthesis on Cu/Zn/Al cat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Ovesen et al. J. Catal. 168 (1997) 1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s change of number of active sites as a function of reaction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lff construction to describe change in particle morphology (the shape of a free particle of a given volume is simply determined by the condition that the total free energy is at minim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3129120"/>
            <a:ext cx="884700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del assum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regions are distinguished: outer gas phase, gas inside pellets and adsorbed phase on the catalyst su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alyst properties along the radium may vary (porosity, totuosity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transport within the poser is decribed by the Dusty-ga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transfer resistance at the outer boundary layer may be inclu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orption/desorption processes can be described as kinetically limited or a equilib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 and temperature profiles are talen into consid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ary reaction steps can be described as detailed a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ctor is described by a cell model. This may be chang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0:47:26Z</dcterms:created>
  <dc:creator>Berger</dc:creator>
  <dc:description/>
  <dc:language>en-US</dc:language>
  <cp:lastModifiedBy>Berger</cp:lastModifiedBy>
  <dcterms:modified xsi:type="dcterms:W3CDTF">2002-08-08T09:35:36Z</dcterms:modified>
  <cp:revision>17</cp:revision>
  <dc:subject/>
  <dc:title>No Slide Title</dc:title>
</cp:coreProperties>
</file>