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E17-E73C-45A7-8E1D-63802FB8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CD5-FB4F-44A3-A9A2-8E26EBFA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1DB-4E3D-4458-A273-92B6CC94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4F7-E430-4BAF-96A9-0911573A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E4A-6B87-4AD5-9CED-B4F5D60A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600-4DFA-43BA-866A-53E4CF57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429-6BC9-4475-9A52-C64770D5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068-DBB0-432B-803E-E0A62941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144-33C2-46E0-89FC-7E9C5B1A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34B-72B3-4160-BFF4-DDF58384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BFC-9AF5-4467-90D6-50B95D80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57E-3FF5-4FB8-9275-A81D64AA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0333-FF6B-4846-853B-9D1C9EB74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230040"/>
            <a:ext cx="8326440" cy="1386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905040" y="3975480"/>
            <a:ext cx="7581600" cy="2489400"/>
          </a:xfrm>
          <a:prstGeom prst="cube">
            <a:avLst>
              <a:gd name="adj" fmla="val 7863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 rot="10800000">
            <a:off x="905040" y="3443400"/>
            <a:ext cx="7581600" cy="2489040"/>
          </a:xfrm>
          <a:prstGeom prst="cube">
            <a:avLst>
              <a:gd name="adj" fmla="val 78634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487840" y="4500000"/>
            <a:ext cx="339480" cy="346320"/>
            <a:chOff x="5487840" y="4500000"/>
            <a:chExt cx="339480" cy="346320"/>
          </a:xfrm>
        </p:grpSpPr>
        <p:sp>
          <p:nvSpPr>
            <p:cNvPr id="45" name=""/>
            <p:cNvSpPr/>
            <p:nvPr/>
          </p:nvSpPr>
          <p:spPr>
            <a:xfrm>
              <a:off x="5529240" y="45417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700000">
              <a:off x="5547240" y="45363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89640" y="4187160"/>
            <a:ext cx="339840" cy="346680"/>
            <a:chOff x="5489640" y="4187160"/>
            <a:chExt cx="339840" cy="346680"/>
          </a:xfrm>
        </p:grpSpPr>
        <p:sp>
          <p:nvSpPr>
            <p:cNvPr id="48" name=""/>
            <p:cNvSpPr/>
            <p:nvPr/>
          </p:nvSpPr>
          <p:spPr>
            <a:xfrm>
              <a:off x="5531040" y="422928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700000">
              <a:off x="5548680" y="4223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948360" y="4925520"/>
            <a:ext cx="339480" cy="346320"/>
            <a:chOff x="6948360" y="4925520"/>
            <a:chExt cx="339480" cy="346320"/>
          </a:xfrm>
        </p:grpSpPr>
        <p:sp>
          <p:nvSpPr>
            <p:cNvPr id="51" name=""/>
            <p:cNvSpPr/>
            <p:nvPr/>
          </p:nvSpPr>
          <p:spPr>
            <a:xfrm>
              <a:off x="6989760" y="49672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700000">
              <a:off x="7007760" y="49618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940440" y="4615920"/>
            <a:ext cx="339480" cy="346320"/>
            <a:chOff x="6940440" y="4615920"/>
            <a:chExt cx="339480" cy="346320"/>
          </a:xfrm>
        </p:grpSpPr>
        <p:sp>
          <p:nvSpPr>
            <p:cNvPr id="54" name=""/>
            <p:cNvSpPr/>
            <p:nvPr/>
          </p:nvSpPr>
          <p:spPr>
            <a:xfrm>
              <a:off x="6981840" y="46576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700000">
              <a:off x="6999840" y="46522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946920" y="4301280"/>
            <a:ext cx="338040" cy="348120"/>
            <a:chOff x="6946920" y="4301280"/>
            <a:chExt cx="338040" cy="348120"/>
          </a:xfrm>
        </p:grpSpPr>
        <p:sp>
          <p:nvSpPr>
            <p:cNvPr id="57" name=""/>
            <p:cNvSpPr/>
            <p:nvPr/>
          </p:nvSpPr>
          <p:spPr>
            <a:xfrm>
              <a:off x="6986520" y="43448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700000">
              <a:off x="7005960" y="43372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476440" y="4308120"/>
            <a:ext cx="337680" cy="347760"/>
            <a:chOff x="2476440" y="4308120"/>
            <a:chExt cx="337680" cy="347760"/>
          </a:xfrm>
        </p:grpSpPr>
        <p:sp>
          <p:nvSpPr>
            <p:cNvPr id="60" name=""/>
            <p:cNvSpPr/>
            <p:nvPr/>
          </p:nvSpPr>
          <p:spPr>
            <a:xfrm>
              <a:off x="2516040" y="4351320"/>
              <a:ext cx="29808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700000">
              <a:off x="2535840" y="43444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81360" y="4307760"/>
            <a:ext cx="338040" cy="348120"/>
            <a:chOff x="2781360" y="4307760"/>
            <a:chExt cx="338040" cy="348120"/>
          </a:xfrm>
        </p:grpSpPr>
        <p:sp>
          <p:nvSpPr>
            <p:cNvPr id="63" name=""/>
            <p:cNvSpPr/>
            <p:nvPr/>
          </p:nvSpPr>
          <p:spPr>
            <a:xfrm>
              <a:off x="2820960" y="43513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700000">
              <a:off x="2840400" y="43437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22840" y="4784040"/>
            <a:ext cx="338040" cy="348120"/>
            <a:chOff x="3822840" y="4784040"/>
            <a:chExt cx="338040" cy="348120"/>
          </a:xfrm>
        </p:grpSpPr>
        <p:sp>
          <p:nvSpPr>
            <p:cNvPr id="66" name=""/>
            <p:cNvSpPr/>
            <p:nvPr/>
          </p:nvSpPr>
          <p:spPr>
            <a:xfrm>
              <a:off x="3862440" y="48276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700000">
              <a:off x="3881880" y="48200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24280" y="4101480"/>
            <a:ext cx="338040" cy="348120"/>
            <a:chOff x="3824280" y="4101480"/>
            <a:chExt cx="338040" cy="348120"/>
          </a:xfrm>
        </p:grpSpPr>
        <p:sp>
          <p:nvSpPr>
            <p:cNvPr id="69" name=""/>
            <p:cNvSpPr/>
            <p:nvPr/>
          </p:nvSpPr>
          <p:spPr>
            <a:xfrm>
              <a:off x="3863880" y="414504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700000">
              <a:off x="3883320" y="413748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92240" y="2694960"/>
            <a:ext cx="338040" cy="348120"/>
            <a:chOff x="1092240" y="2694960"/>
            <a:chExt cx="338040" cy="348120"/>
          </a:xfrm>
        </p:grpSpPr>
        <p:sp>
          <p:nvSpPr>
            <p:cNvPr id="72" name=""/>
            <p:cNvSpPr/>
            <p:nvPr/>
          </p:nvSpPr>
          <p:spPr>
            <a:xfrm>
              <a:off x="113184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700000">
              <a:off x="115128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397160" y="2694960"/>
            <a:ext cx="338040" cy="348120"/>
            <a:chOff x="1397160" y="2694960"/>
            <a:chExt cx="338040" cy="348120"/>
          </a:xfrm>
        </p:grpSpPr>
        <p:sp>
          <p:nvSpPr>
            <p:cNvPr id="75" name=""/>
            <p:cNvSpPr/>
            <p:nvPr/>
          </p:nvSpPr>
          <p:spPr>
            <a:xfrm>
              <a:off x="1436760" y="2738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700000">
              <a:off x="1456200" y="2730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482920" y="2370960"/>
            <a:ext cx="338040" cy="348120"/>
            <a:chOff x="2482920" y="2370960"/>
            <a:chExt cx="338040" cy="348120"/>
          </a:xfrm>
        </p:grpSpPr>
        <p:sp>
          <p:nvSpPr>
            <p:cNvPr id="78" name=""/>
            <p:cNvSpPr/>
            <p:nvPr/>
          </p:nvSpPr>
          <p:spPr>
            <a:xfrm>
              <a:off x="252252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700000">
              <a:off x="254196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87840" y="2370960"/>
            <a:ext cx="338040" cy="348120"/>
            <a:chOff x="2787840" y="2370960"/>
            <a:chExt cx="338040" cy="348120"/>
          </a:xfrm>
        </p:grpSpPr>
        <p:sp>
          <p:nvSpPr>
            <p:cNvPr id="81" name=""/>
            <p:cNvSpPr/>
            <p:nvPr/>
          </p:nvSpPr>
          <p:spPr>
            <a:xfrm>
              <a:off x="2827440" y="24145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700000">
              <a:off x="2846880" y="24069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043600" y="4025160"/>
            <a:ext cx="338040" cy="348120"/>
            <a:chOff x="5043600" y="4025160"/>
            <a:chExt cx="338040" cy="348120"/>
          </a:xfrm>
        </p:grpSpPr>
        <p:sp>
          <p:nvSpPr>
            <p:cNvPr id="84" name=""/>
            <p:cNvSpPr/>
            <p:nvPr/>
          </p:nvSpPr>
          <p:spPr>
            <a:xfrm>
              <a:off x="5083200" y="406872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700000">
              <a:off x="5102640" y="406116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59160" y="2772720"/>
            <a:ext cx="339480" cy="346320"/>
            <a:chOff x="4259160" y="2772720"/>
            <a:chExt cx="339480" cy="346320"/>
          </a:xfrm>
        </p:grpSpPr>
        <p:sp>
          <p:nvSpPr>
            <p:cNvPr id="87" name=""/>
            <p:cNvSpPr/>
            <p:nvPr/>
          </p:nvSpPr>
          <p:spPr>
            <a:xfrm>
              <a:off x="4300560" y="281448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700000">
              <a:off x="4318560" y="280908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260600" y="2460240"/>
            <a:ext cx="339480" cy="346320"/>
            <a:chOff x="4260600" y="2460240"/>
            <a:chExt cx="339480" cy="346320"/>
          </a:xfrm>
        </p:grpSpPr>
        <p:sp>
          <p:nvSpPr>
            <p:cNvPr id="90" name=""/>
            <p:cNvSpPr/>
            <p:nvPr/>
          </p:nvSpPr>
          <p:spPr>
            <a:xfrm>
              <a:off x="4302000" y="250200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700000">
              <a:off x="4320000" y="249660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26000" y="2188800"/>
            <a:ext cx="339480" cy="346320"/>
            <a:chOff x="5526000" y="2188800"/>
            <a:chExt cx="339480" cy="346320"/>
          </a:xfrm>
        </p:grpSpPr>
        <p:sp>
          <p:nvSpPr>
            <p:cNvPr id="93" name=""/>
            <p:cNvSpPr/>
            <p:nvPr/>
          </p:nvSpPr>
          <p:spPr>
            <a:xfrm>
              <a:off x="5567400" y="223056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700000">
              <a:off x="5585400" y="222516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527440" y="1875960"/>
            <a:ext cx="339480" cy="346320"/>
            <a:chOff x="5527440" y="1875960"/>
            <a:chExt cx="339480" cy="346320"/>
          </a:xfrm>
        </p:grpSpPr>
        <p:sp>
          <p:nvSpPr>
            <p:cNvPr id="96" name=""/>
            <p:cNvSpPr/>
            <p:nvPr/>
          </p:nvSpPr>
          <p:spPr>
            <a:xfrm>
              <a:off x="5568840" y="1917720"/>
              <a:ext cx="29808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700000">
              <a:off x="5586840" y="1912320"/>
              <a:ext cx="208080" cy="2538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22400" y="2763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8320" y="3024360"/>
            <a:ext cx="1054080" cy="1320480"/>
          </a:xfrm>
          <a:custGeom>
            <a:avLst/>
            <a:gdLst/>
            <a:ahLst/>
            <a:rect l="l" t="t" r="r" b="b"/>
            <a:pathLst>
              <a:path w="640" h="760">
                <a:moveTo>
                  <a:pt x="640" y="760"/>
                </a:moveTo>
                <a:lnTo>
                  <a:pt x="620" y="636"/>
                </a:lnTo>
                <a:lnTo>
                  <a:pt x="592" y="558"/>
                </a:lnTo>
                <a:lnTo>
                  <a:pt x="568" y="508"/>
                </a:lnTo>
                <a:lnTo>
                  <a:pt x="524" y="448"/>
                </a:lnTo>
                <a:lnTo>
                  <a:pt x="466" y="396"/>
                </a:lnTo>
                <a:lnTo>
                  <a:pt x="374" y="310"/>
                </a:lnTo>
                <a:lnTo>
                  <a:pt x="256" y="20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2400" y="3506760"/>
            <a:ext cx="1800" cy="812880"/>
          </a:xfrm>
          <a:custGeom>
            <a:avLst/>
            <a:gdLst/>
            <a:ahLst/>
            <a:rect l="l" t="t" r="r" b="b"/>
            <a:pathLst>
              <a:path w="1" h="512">
                <a:moveTo>
                  <a:pt x="0" y="0"/>
                </a:moveTo>
                <a:lnTo>
                  <a:pt x="0" y="5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6400" y="4592520"/>
            <a:ext cx="66996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4640" y="4065480"/>
            <a:ext cx="879480" cy="155520"/>
          </a:xfrm>
          <a:custGeom>
            <a:avLst/>
            <a:gdLst/>
            <a:ahLst/>
            <a:rect l="l" t="t" r="r" b="b"/>
            <a:pathLst>
              <a:path w="554" h="98">
                <a:moveTo>
                  <a:pt x="0" y="98"/>
                </a:moveTo>
                <a:lnTo>
                  <a:pt x="84" y="66"/>
                </a:lnTo>
                <a:lnTo>
                  <a:pt x="180" y="34"/>
                </a:lnTo>
                <a:lnTo>
                  <a:pt x="262" y="16"/>
                </a:lnTo>
                <a:lnTo>
                  <a:pt x="322" y="8"/>
                </a:lnTo>
                <a:lnTo>
                  <a:pt x="382" y="0"/>
                </a:lnTo>
                <a:lnTo>
                  <a:pt x="444" y="6"/>
                </a:lnTo>
                <a:lnTo>
                  <a:pt x="554" y="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05440" y="4614840"/>
            <a:ext cx="663480" cy="374760"/>
          </a:xfrm>
          <a:custGeom>
            <a:avLst/>
            <a:gdLst/>
            <a:ahLst/>
            <a:rect l="l" t="t" r="r" b="b"/>
            <a:pathLst>
              <a:path w="418" h="236">
                <a:moveTo>
                  <a:pt x="418" y="236"/>
                </a:moveTo>
                <a:lnTo>
                  <a:pt x="400" y="204"/>
                </a:lnTo>
                <a:lnTo>
                  <a:pt x="368" y="168"/>
                </a:lnTo>
                <a:lnTo>
                  <a:pt x="300" y="118"/>
                </a:lnTo>
                <a:lnTo>
                  <a:pt x="240" y="80"/>
                </a:ln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1080" y="2827440"/>
            <a:ext cx="1101600" cy="1314360"/>
          </a:xfrm>
          <a:custGeom>
            <a:avLst/>
            <a:gdLst/>
            <a:ahLst/>
            <a:rect l="l" t="t" r="r" b="b"/>
            <a:pathLst>
              <a:path w="694" h="828">
                <a:moveTo>
                  <a:pt x="694" y="828"/>
                </a:moveTo>
                <a:lnTo>
                  <a:pt x="694" y="700"/>
                </a:lnTo>
                <a:lnTo>
                  <a:pt x="660" y="614"/>
                </a:lnTo>
                <a:lnTo>
                  <a:pt x="588" y="502"/>
                </a:lnTo>
                <a:lnTo>
                  <a:pt x="512" y="396"/>
                </a:lnTo>
                <a:lnTo>
                  <a:pt x="416" y="294"/>
                </a:lnTo>
                <a:lnTo>
                  <a:pt x="306" y="204"/>
                </a:lnTo>
                <a:lnTo>
                  <a:pt x="176" y="1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05640" y="26431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51440" y="4538520"/>
            <a:ext cx="1095480" cy="203400"/>
          </a:xfrm>
          <a:custGeom>
            <a:avLst/>
            <a:gdLst/>
            <a:ahLst/>
            <a:rect l="l" t="t" r="r" b="b"/>
            <a:pathLst>
              <a:path w="690" h="128">
                <a:moveTo>
                  <a:pt x="0" y="0"/>
                </a:moveTo>
                <a:lnTo>
                  <a:pt x="158" y="6"/>
                </a:lnTo>
                <a:lnTo>
                  <a:pt x="278" y="16"/>
                </a:lnTo>
                <a:lnTo>
                  <a:pt x="382" y="32"/>
                </a:lnTo>
                <a:lnTo>
                  <a:pt x="466" y="50"/>
                </a:lnTo>
                <a:lnTo>
                  <a:pt x="560" y="74"/>
                </a:lnTo>
                <a:lnTo>
                  <a:pt x="690" y="12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868560"/>
            <a:ext cx="1076400" cy="955800"/>
          </a:xfrm>
          <a:custGeom>
            <a:avLst/>
            <a:gdLst/>
            <a:ahLst/>
            <a:rect l="l" t="t" r="r" b="b"/>
            <a:pathLst>
              <a:path w="536" h="472">
                <a:moveTo>
                  <a:pt x="0" y="472"/>
                </a:moveTo>
                <a:lnTo>
                  <a:pt x="92" y="434"/>
                </a:lnTo>
                <a:lnTo>
                  <a:pt x="170" y="336"/>
                </a:lnTo>
                <a:lnTo>
                  <a:pt x="256" y="206"/>
                </a:lnTo>
                <a:lnTo>
                  <a:pt x="326" y="116"/>
                </a:lnTo>
                <a:lnTo>
                  <a:pt x="370" y="68"/>
                </a:lnTo>
                <a:lnTo>
                  <a:pt x="446" y="16"/>
                </a:lnTo>
                <a:lnTo>
                  <a:pt x="5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96280" y="3982320"/>
            <a:ext cx="339840" cy="346680"/>
            <a:chOff x="8396280" y="3982320"/>
            <a:chExt cx="339840" cy="346680"/>
          </a:xfrm>
        </p:grpSpPr>
        <p:sp>
          <p:nvSpPr>
            <p:cNvPr id="109" name=""/>
            <p:cNvSpPr/>
            <p:nvPr/>
          </p:nvSpPr>
          <p:spPr>
            <a:xfrm>
              <a:off x="8437680" y="40244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700000">
              <a:off x="8455320" y="40183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388360" y="3672720"/>
            <a:ext cx="339840" cy="346680"/>
            <a:chOff x="8388360" y="3672720"/>
            <a:chExt cx="339840" cy="346680"/>
          </a:xfrm>
        </p:grpSpPr>
        <p:sp>
          <p:nvSpPr>
            <p:cNvPr id="112" name=""/>
            <p:cNvSpPr/>
            <p:nvPr/>
          </p:nvSpPr>
          <p:spPr>
            <a:xfrm>
              <a:off x="8429760" y="3714840"/>
              <a:ext cx="298440" cy="3045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700000">
              <a:off x="8447400" y="370872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94840" y="3358440"/>
            <a:ext cx="338040" cy="348120"/>
            <a:chOff x="8394840" y="3358440"/>
            <a:chExt cx="338040" cy="348120"/>
          </a:xfrm>
        </p:grpSpPr>
        <p:sp>
          <p:nvSpPr>
            <p:cNvPr id="115" name=""/>
            <p:cNvSpPr/>
            <p:nvPr/>
          </p:nvSpPr>
          <p:spPr>
            <a:xfrm>
              <a:off x="8434440" y="3402000"/>
              <a:ext cx="298440" cy="304560"/>
            </a:xfrm>
            <a:prstGeom prst="ellipse">
              <a:avLst/>
            </a:prstGeom>
            <a:solidFill>
              <a:srgbClr val="0062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700000">
              <a:off x="8453880" y="3394440"/>
              <a:ext cx="208080" cy="254160"/>
            </a:xfrm>
            <a:prstGeom prst="ellipse">
              <a:avLst/>
            </a:prstGeom>
            <a:gradFill rotWithShape="0">
              <a:gsLst>
                <a:gs pos="0">
                  <a:srgbClr val="00624b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836280" y="3063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98280" y="28479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493092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95800" y="5464080"/>
            <a:ext cx="24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ys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95800" y="5997600"/>
            <a:ext cx="17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16800" y="5591160"/>
            <a:ext cx="125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7720" y="564048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443640" y="562932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7880" y="43830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06400" y="4498920"/>
            <a:ext cx="324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406600">
            <a:off x="4527720" y="27745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71080" y="278460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d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716400">
            <a:off x="5880240" y="4203720"/>
            <a:ext cx="100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1440" y="341964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70320" y="509580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444800">
            <a:off x="2693520" y="47844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033200">
            <a:off x="7243920" y="37234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338720"/>
            <a:ext cx="330120" cy="606240"/>
          </a:xfrm>
          <a:custGeom>
            <a:avLst/>
            <a:gdLst/>
            <a:ahLst/>
            <a:rect l="l" t="t" r="r" b="b"/>
            <a:pathLst>
              <a:path w="208" h="382">
                <a:moveTo>
                  <a:pt x="0" y="382"/>
                </a:moveTo>
                <a:lnTo>
                  <a:pt x="68" y="308"/>
                </a:lnTo>
                <a:lnTo>
                  <a:pt x="120" y="230"/>
                </a:lnTo>
                <a:lnTo>
                  <a:pt x="160" y="146"/>
                </a:lnTo>
                <a:lnTo>
                  <a:pt x="20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0480" y="4911840"/>
            <a:ext cx="25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sorbate-adsor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3920" y="217440"/>
            <a:ext cx="80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 methods in Chemical kine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" y="971640"/>
            <a:ext cx="54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J. Keil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 Hamburg-Har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48440" y="19130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kin - 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61040" y="1935000"/>
            <a:ext cx="2651040" cy="466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tuhh_geel" descr=""/>
          <p:cNvPicPr/>
          <p:nvPr/>
        </p:nvPicPr>
        <p:blipFill>
          <a:blip r:embed="rId1"/>
          <a:stretch/>
        </p:blipFill>
        <p:spPr>
          <a:xfrm>
            <a:off x="6510240" y="888840"/>
            <a:ext cx="1905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1200" y="515880"/>
            <a:ext cx="873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ith som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xplanation (3 page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urface reactions model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and several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dynamic simul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using sinusoidal feed (4 pages) and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1 pag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6-28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527040"/>
            <a:ext cx="8867880" cy="19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Temperature Scanning Reactor (TS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2040" y="134460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Kolkowski, F. Kei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76640" y="1104840"/>
            <a:ext cx="1905120" cy="609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040520" y="1419120"/>
            <a:ext cx="1133640" cy="819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14440" y="1878120"/>
            <a:ext cx="55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1054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-operation with: Liebner, Wolf and Ba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000" y="2513160"/>
            <a:ext cx="722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3440" indent="-133344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the intrinsic kinetic parameters of a heterogeneous catalysed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600" y="3198960"/>
            <a:ext cx="84531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cessary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fluence of heat and mass transfer from gas bulk phase to catalyst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emperature dependence of the catalys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2640" y="4379760"/>
            <a:ext cx="845352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boundary condition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catalytic activity along the b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flow in the tube 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itial temperature of th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the same temperature program at the in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’s environment is heated-up as in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at transfer reactor/environment determines the heat 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280" y="1104840"/>
            <a:ext cx="7581600" cy="12193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97000" y="608040"/>
            <a:ext cx="84531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erimental procedu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a constant mole flux of constant 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 certain temperature program between two fixed temperatur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he temperature and the composition at the outlet of the reactor while the temperature program is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end temperature of the program is reached, cool down the reactor to start temperature in 2., adjust a new mole flux but keep the composition of 1. constant and repeat 2. with the same temperatur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this procedure for at least four mole flu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0600" y="477036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Reactor set-up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model equation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ome typical experimental result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with some explanation (9 pages),</a:t>
            </a: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29-3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1680" y="4781520"/>
            <a:ext cx="8524800" cy="125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3720" y="798480"/>
            <a:ext cx="845352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investigation of a reactor over a wide temperatur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derivation of the reaction rate of each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investigation of the influence of different partial pressures of reactants on the reactio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computation of reaction rates and kineti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120" y="3300480"/>
            <a:ext cx="845352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vantages TSR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demands on experimental data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ystematical errors caused by velocity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assical Catalytic Kin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100332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bo or a REAL Thing ?   (Boudart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8680" y="4395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HHW,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8120"/>
            <a:ext cx="878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udart (1980 !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ucture Insensitive re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HHW is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 of Chemical kinetic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cessful Application of an Inadequate Model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37926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perm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kinetics: What is the point of mat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360" y="51181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metimes the best Fit to Experimental Rate Data is given by Equations that are neither of LHHW form not of the form of a Power Rat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0360" y="10033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of kinetic data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talytic processes on surfaces from measurements in the gas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general NOT possible (ill-posed problem, not uni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7320" y="4638600"/>
            <a:ext cx="1919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5480" y="3965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1600" y="4822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56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3500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28680" y="4441680"/>
            <a:ext cx="115920" cy="114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5200" y="4695840"/>
            <a:ext cx="11556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5640" y="4695840"/>
            <a:ext cx="115920" cy="114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1800" y="4108320"/>
            <a:ext cx="1778040" cy="9684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5040" y="4649760"/>
            <a:ext cx="1778040" cy="276120"/>
          </a:xfrm>
          <a:custGeom>
            <a:avLst/>
            <a:gdLst/>
            <a:ahLst/>
            <a:rect l="l" t="t" r="r" b="b"/>
            <a:pathLst>
              <a:path w="1120" h="174">
                <a:moveTo>
                  <a:pt x="0" y="173"/>
                </a:moveTo>
                <a:lnTo>
                  <a:pt x="215" y="174"/>
                </a:lnTo>
                <a:lnTo>
                  <a:pt x="305" y="0"/>
                </a:lnTo>
                <a:lnTo>
                  <a:pt x="397" y="174"/>
                </a:lnTo>
                <a:lnTo>
                  <a:pt x="559" y="174"/>
                </a:lnTo>
                <a:lnTo>
                  <a:pt x="649" y="1"/>
                </a:lnTo>
                <a:lnTo>
                  <a:pt x="740" y="172"/>
                </a:lnTo>
                <a:lnTo>
                  <a:pt x="850" y="172"/>
                </a:lnTo>
                <a:lnTo>
                  <a:pt x="941" y="0"/>
                </a:lnTo>
                <a:lnTo>
                  <a:pt x="1030" y="172"/>
                </a:lnTo>
                <a:lnTo>
                  <a:pt x="1120" y="17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83320" y="421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816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3520" y="421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870360" y="4448160"/>
            <a:ext cx="230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18160" y="36860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4635360"/>
            <a:ext cx="189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8840" y="4419720"/>
            <a:ext cx="1269720" cy="139680"/>
          </a:xfrm>
          <a:custGeom>
            <a:avLst/>
            <a:gdLst/>
            <a:ahLst/>
            <a:rect l="l" t="t" r="r" b="b"/>
            <a:pathLst>
              <a:path w="800" h="88">
                <a:moveTo>
                  <a:pt x="0" y="84"/>
                </a:moveTo>
                <a:lnTo>
                  <a:pt x="91" y="84"/>
                </a:lnTo>
                <a:lnTo>
                  <a:pt x="145" y="78"/>
                </a:lnTo>
                <a:lnTo>
                  <a:pt x="190" y="67"/>
                </a:lnTo>
                <a:lnTo>
                  <a:pt x="233" y="49"/>
                </a:lnTo>
                <a:lnTo>
                  <a:pt x="268" y="33"/>
                </a:lnTo>
                <a:lnTo>
                  <a:pt x="299" y="16"/>
                </a:lnTo>
                <a:lnTo>
                  <a:pt x="336" y="7"/>
                </a:lnTo>
                <a:lnTo>
                  <a:pt x="368" y="1"/>
                </a:lnTo>
                <a:lnTo>
                  <a:pt x="403" y="0"/>
                </a:lnTo>
                <a:lnTo>
                  <a:pt x="440" y="1"/>
                </a:lnTo>
                <a:lnTo>
                  <a:pt x="478" y="10"/>
                </a:lnTo>
                <a:lnTo>
                  <a:pt x="511" y="19"/>
                </a:lnTo>
                <a:lnTo>
                  <a:pt x="545" y="40"/>
                </a:lnTo>
                <a:lnTo>
                  <a:pt x="583" y="60"/>
                </a:lnTo>
                <a:lnTo>
                  <a:pt x="616" y="73"/>
                </a:lnTo>
                <a:lnTo>
                  <a:pt x="661" y="84"/>
                </a:lnTo>
                <a:lnTo>
                  <a:pt x="694" y="88"/>
                </a:lnTo>
                <a:lnTo>
                  <a:pt x="800" y="8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02200" y="4815000"/>
            <a:ext cx="2346120" cy="707760"/>
          </a:xfrm>
          <a:custGeom>
            <a:avLst/>
            <a:gdLst/>
            <a:ahLst/>
            <a:rect l="l" t="t" r="r" b="b"/>
            <a:pathLst>
              <a:path w="1478" h="446">
                <a:moveTo>
                  <a:pt x="1478" y="0"/>
                </a:moveTo>
                <a:lnTo>
                  <a:pt x="1443" y="80"/>
                </a:lnTo>
                <a:lnTo>
                  <a:pt x="1389" y="153"/>
                </a:lnTo>
                <a:lnTo>
                  <a:pt x="1309" y="227"/>
                </a:lnTo>
                <a:lnTo>
                  <a:pt x="1195" y="290"/>
                </a:lnTo>
                <a:lnTo>
                  <a:pt x="1021" y="370"/>
                </a:lnTo>
                <a:lnTo>
                  <a:pt x="864" y="412"/>
                </a:lnTo>
                <a:lnTo>
                  <a:pt x="697" y="437"/>
                </a:lnTo>
                <a:lnTo>
                  <a:pt x="526" y="446"/>
                </a:lnTo>
                <a:lnTo>
                  <a:pt x="360" y="442"/>
                </a:lnTo>
                <a:lnTo>
                  <a:pt x="279" y="430"/>
                </a:lnTo>
                <a:lnTo>
                  <a:pt x="177" y="392"/>
                </a:lnTo>
                <a:lnTo>
                  <a:pt x="96" y="353"/>
                </a:lnTo>
                <a:lnTo>
                  <a:pt x="0" y="279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32480" y="4010040"/>
            <a:ext cx="15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is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97840" y="3592440"/>
            <a:ext cx="504720" cy="409680"/>
          </a:xfrm>
          <a:custGeom>
            <a:avLst/>
            <a:gdLst/>
            <a:ahLst/>
            <a:rect l="l" t="t" r="r" b="b"/>
            <a:pathLst>
              <a:path w="318" h="258">
                <a:moveTo>
                  <a:pt x="0" y="0"/>
                </a:moveTo>
                <a:lnTo>
                  <a:pt x="62" y="14"/>
                </a:lnTo>
                <a:lnTo>
                  <a:pt x="116" y="42"/>
                </a:lnTo>
                <a:lnTo>
                  <a:pt x="156" y="72"/>
                </a:lnTo>
                <a:lnTo>
                  <a:pt x="197" y="104"/>
                </a:lnTo>
                <a:lnTo>
                  <a:pt x="237" y="143"/>
                </a:lnTo>
                <a:lnTo>
                  <a:pt x="270" y="182"/>
                </a:lnTo>
                <a:lnTo>
                  <a:pt x="318" y="258"/>
                </a:ln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65720" y="3263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46840" y="552456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nvers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2848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ey problems in the stud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kinetics of catalytic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63680" y="104760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. Stolze: Prog. Surf. Sci.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2000) 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49688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s cannot be deduced from the net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360" y="215424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ction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kine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 necessar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" y="405756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mech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y complex kin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960" y="4454640"/>
            <a:ext cx="85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fferent reaction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predict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e overal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4834080"/>
            <a:ext cx="82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echanistic details cannot be deduced from an experimental determination of the form of the kinetic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" y="5411880"/>
            <a:ext cx="878364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angerous to argue by analogy since the reaction mechanism may be completely differen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 HI   :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I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B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Br    proceeds via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in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" y="1776240"/>
            <a:ext cx="741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in gener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k/K)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14680" y="192240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160" y="2759040"/>
            <a:ext cx="74138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4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= k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 baseline="-42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6640" y="2801880"/>
            <a:ext cx="2389320" cy="319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2120" y="290196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2000" y="324468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43040" y="3589200"/>
            <a:ext cx="257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28920" y="3879720"/>
            <a:ext cx="25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1160" y="6107040"/>
            <a:ext cx="241200" cy="92160"/>
          </a:xfrm>
          <a:prstGeom prst="leftRightArrow">
            <a:avLst>
              <a:gd name="adj1" fmla="val 50000"/>
              <a:gd name="adj2" fmla="val 521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60560" y="6440400"/>
            <a:ext cx="241560" cy="92160"/>
          </a:xfrm>
          <a:prstGeom prst="leftRightArrow">
            <a:avLst>
              <a:gd name="adj1" fmla="val 50000"/>
              <a:gd name="adj2" fmla="val 52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GENERA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360" y="120492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ome Experiments and Chemical Knowledge a couple of “Mechanisms” (Sequences of Elementary steps) are 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6280" y="230652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41360" y="2257560"/>
            <a:ext cx="70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 use of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wer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0680" y="3043080"/>
            <a:ext cx="736560" cy="246240"/>
          </a:xfrm>
          <a:prstGeom prst="rightArrow">
            <a:avLst>
              <a:gd name="adj1" fmla="val 50000"/>
              <a:gd name="adj2" fmla="val 747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41360" y="2965320"/>
            <a:ext cx="70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it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ften is the method of Data Analysis far better than the Data themsel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3440" y="3917880"/>
            <a:ext cx="81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veral different LHHW expre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well fitted to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3440" y="4986360"/>
            <a:ext cx="87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n’t mean anything with respec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90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ommon Approx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4760" y="1060560"/>
            <a:ext cx="816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state  (eliminates transient behav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si-equilibrium (for fast re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rreversible steps (no approach to equilibr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 abundant reaction intermediate (MARI, does not change with time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520" y="2836800"/>
            <a:ext cx="816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Asp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ichiometr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modynamic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6240" y="423720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. Mezaki, H. Inoue (Rate equations of Solid-Catalysed Reactions, Univ. of Tokyo Press (1991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two, ALL reactions could be fit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HH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3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ssumptions in the LHHW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9200" y="1046160"/>
            <a:ext cx="74278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muir adsorption iso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ateral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ites are of the same quality (homogeneous surface, no structure sensitivit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number of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one or zero molecules on one site (no complex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of adsorption is independent of occu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rface diffusion is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field approximation   (r = 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9280" y="4019400"/>
            <a:ext cx="74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most cases none of these approximations is fulfille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0480" y="4770360"/>
            <a:ext cx="804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ma et al. (CES 43 (1988) 785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 same level of fiting is obtained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three isothe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angmuir, Freundlich and Temkin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NSTATIONARY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" y="1052640"/>
            <a:ext cx="816480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Desorption (T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Programmed Oxidation/Reduction (TPO/TP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Scanning Reactor (TSR)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see slides 11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-State Isotopic Transient Kinetic Analysis (SSIT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 Analysis of Products reactor (T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 Front Analysi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fma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Response Analysis (composition, pressure, temp.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hermal Frequency Response Method, Stopp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634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Explanation of the techniques (5), (7) and (8)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including examples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e available in the scanned copies, see file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Keil_scans.doc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, pages 1-15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5632560"/>
            <a:ext cx="886788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ynamic Microkinet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" y="1052640"/>
            <a:ext cx="880920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 MeOH synthesis on Cu/Zn/Al cat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Ovesen et al. J. Catal. 168 (1997) 1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s change of number of active sites as a function of reaction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lff construction to describe change in particle morphology (the shape of a free particle of a given volume is simply determined by the condition that the total free energy is at minim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3129120"/>
            <a:ext cx="88470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l assum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regions are distinguished: outer gas phase, gas inside pellets and adsorbed phase on the catalyst su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alyst properties along the radium may vary (porosity, totuosity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transport within the poser is decribed by the Dusty-ga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transfer resistance at the outer boundary layer may be in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orption/desorption processes can be described as kinetically limited or a equilib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and temperature profiles are talen into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reaction steps can be described as detailed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ctor is described by a cell model. This may be ch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0:47:26Z</dcterms:created>
  <dc:creator>Berger</dc:creator>
  <dc:description/>
  <dc:language>en-US</dc:language>
  <cp:lastModifiedBy>Berger</cp:lastModifiedBy>
  <dcterms:modified xsi:type="dcterms:W3CDTF">2002-08-08T09:35:36Z</dcterms:modified>
  <cp:revision>17</cp:revision>
  <dc:subject/>
  <dc:title>No Slide Title</dc:title>
</cp:coreProperties>
</file>